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691813" cy="7556500"/>
  <p:notesSz cx="10691813" cy="7556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5D4-AD2A-4BC7-B51C-974138AB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9623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2680"/>
            <a:ext cx="9623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AB8-58CD-45A8-9B5C-B32D09F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80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26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26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E77-625D-44CB-93EA-9E5BB6B1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3098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8080"/>
            <a:ext cx="3098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8080"/>
            <a:ext cx="3098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2680"/>
            <a:ext cx="3098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2680"/>
            <a:ext cx="3098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2680"/>
            <a:ext cx="3098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F0C-94B1-4206-A7C3-86CE644B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8080"/>
            <a:ext cx="9623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A74-CEED-4B12-ADB2-D71E014B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9623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2A7-3136-4775-A0E6-C9BBADB2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469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8080"/>
            <a:ext cx="469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AAD-1844-4529-BF45-184C2B33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6D9D-CCBA-4B65-B2E0-51E00C5F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5760" y="2322000"/>
            <a:ext cx="3841920" cy="708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6AB-5AA8-4E38-BADE-039816DC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8080"/>
            <a:ext cx="469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26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7A8-1D00-4D8C-A119-0DE43876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469620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80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26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F87-BC72-4F71-908F-FAD61FB6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80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8080"/>
            <a:ext cx="46962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2680"/>
            <a:ext cx="96235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90C-5DAE-4D66-9B0E-CC03399F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8080"/>
            <a:ext cx="962352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7027560"/>
            <a:ext cx="34228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34600" y="7027560"/>
            <a:ext cx="2459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8960" y="7027560"/>
            <a:ext cx="245916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4B46-2586-4746-9957-B004B827068A}" type="slidenum">
              <a:rPr b="0" lang="zh-CN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5760" y="2322000"/>
            <a:ext cx="3841920" cy="15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9920" indent="0" algn="ctr">
              <a:lnSpc>
                <a:spcPts val="624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36"/>
                </a:solidFill>
                <a:latin typeface="Maiandra GD"/>
                <a:ea typeface="宋体"/>
              </a:rPr>
              <a:t>UHF</a:t>
            </a:r>
            <a:r>
              <a:rPr b="0" lang="zh-CN" sz="4800" spc="-1" strike="noStrike">
                <a:solidFill>
                  <a:srgbClr val="001b36"/>
                </a:solidFill>
                <a:latin typeface="隶书"/>
                <a:ea typeface="隶书"/>
              </a:rPr>
              <a:t>安全门 通道搭建说明</a:t>
            </a:r>
            <a:endParaRPr b="0" lang="en-US" sz="4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773280" y="347760"/>
            <a:ext cx="9144000" cy="10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bject 3"/>
          <p:cNvSpPr/>
          <p:nvPr/>
        </p:nvSpPr>
        <p:spPr>
          <a:xfrm>
            <a:off x="1415880" y="1792440"/>
            <a:ext cx="8045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 indent="398520">
              <a:lnSpc>
                <a:spcPts val="14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安全门分主门和副门，主门包含读写器模块、电源模块、门禁控制模块、声光报警器、红外 检测组件和</a:t>
            </a: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。副门包括声光报警器、红外检测组件和</a:t>
            </a: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。根据包含组件数量的不 同，可分为四种类型，包括主门</a:t>
            </a: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副门</a:t>
            </a: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、</a:t>
            </a: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15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如下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bject 4"/>
          <p:cNvSpPr/>
          <p:nvPr/>
        </p:nvSpPr>
        <p:spPr>
          <a:xfrm>
            <a:off x="2392200" y="3056040"/>
            <a:ext cx="1152720" cy="718920"/>
          </a:xfrm>
          <a:custGeom>
            <a:avLst/>
            <a:gdLst/>
            <a:ahLst/>
            <a:rect l="l" t="t" r="r" b="b"/>
            <a:pathLst>
              <a:path w="1152144" h="719327">
                <a:moveTo>
                  <a:pt x="0" y="719327"/>
                </a:moveTo>
                <a:lnTo>
                  <a:pt x="1152144" y="719327"/>
                </a:lnTo>
                <a:lnTo>
                  <a:pt x="1152144" y="0"/>
                </a:lnTo>
                <a:lnTo>
                  <a:pt x="0" y="0"/>
                </a:lnTo>
                <a:lnTo>
                  <a:pt x="0" y="71932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bject 6"/>
          <p:cNvSpPr/>
          <p:nvPr/>
        </p:nvSpPr>
        <p:spPr>
          <a:xfrm>
            <a:off x="2471760" y="3041640"/>
            <a:ext cx="96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bject 7"/>
          <p:cNvSpPr/>
          <p:nvPr/>
        </p:nvSpPr>
        <p:spPr>
          <a:xfrm>
            <a:off x="3978360" y="3056040"/>
            <a:ext cx="1150920" cy="718920"/>
          </a:xfrm>
          <a:custGeom>
            <a:avLst/>
            <a:gdLst/>
            <a:ahLst/>
            <a:rect l="l" t="t" r="r" b="b"/>
            <a:pathLst>
              <a:path w="1152143" h="719327">
                <a:moveTo>
                  <a:pt x="0" y="719327"/>
                </a:moveTo>
                <a:lnTo>
                  <a:pt x="1152143" y="719327"/>
                </a:lnTo>
                <a:lnTo>
                  <a:pt x="1152143" y="0"/>
                </a:lnTo>
                <a:lnTo>
                  <a:pt x="0" y="0"/>
                </a:lnTo>
                <a:lnTo>
                  <a:pt x="0" y="71932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9"/>
          <p:cNvSpPr/>
          <p:nvPr/>
        </p:nvSpPr>
        <p:spPr>
          <a:xfrm>
            <a:off x="4054320" y="3041640"/>
            <a:ext cx="96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object 10"/>
          <p:cNvSpPr/>
          <p:nvPr/>
        </p:nvSpPr>
        <p:spPr>
          <a:xfrm>
            <a:off x="7218360" y="3056040"/>
            <a:ext cx="1150920" cy="718920"/>
          </a:xfrm>
          <a:custGeom>
            <a:avLst/>
            <a:gdLst/>
            <a:ahLst/>
            <a:rect l="l" t="t" r="r" b="b"/>
            <a:pathLst>
              <a:path w="1152144" h="719327">
                <a:moveTo>
                  <a:pt x="0" y="719327"/>
                </a:moveTo>
                <a:lnTo>
                  <a:pt x="1152144" y="719327"/>
                </a:lnTo>
                <a:lnTo>
                  <a:pt x="1152144" y="0"/>
                </a:lnTo>
                <a:lnTo>
                  <a:pt x="0" y="0"/>
                </a:lnTo>
                <a:lnTo>
                  <a:pt x="0" y="71932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12"/>
          <p:cNvSpPr/>
          <p:nvPr/>
        </p:nvSpPr>
        <p:spPr>
          <a:xfrm>
            <a:off x="5560920" y="3056040"/>
            <a:ext cx="1152720" cy="718920"/>
          </a:xfrm>
          <a:custGeom>
            <a:avLst/>
            <a:gdLst/>
            <a:ahLst/>
            <a:rect l="l" t="t" r="r" b="b"/>
            <a:pathLst>
              <a:path w="1152144" h="719327">
                <a:moveTo>
                  <a:pt x="0" y="719327"/>
                </a:moveTo>
                <a:lnTo>
                  <a:pt x="1152144" y="719327"/>
                </a:lnTo>
                <a:lnTo>
                  <a:pt x="1152144" y="0"/>
                </a:lnTo>
                <a:lnTo>
                  <a:pt x="0" y="0"/>
                </a:lnTo>
                <a:lnTo>
                  <a:pt x="0" y="71932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14"/>
          <p:cNvSpPr/>
          <p:nvPr/>
        </p:nvSpPr>
        <p:spPr>
          <a:xfrm>
            <a:off x="2392200" y="3774960"/>
            <a:ext cx="1152720" cy="1514520"/>
          </a:xfrm>
          <a:custGeom>
            <a:avLst/>
            <a:gdLst/>
            <a:ahLst/>
            <a:rect l="l" t="t" r="r" b="b"/>
            <a:pathLst>
              <a:path w="1152144" h="1513332">
                <a:moveTo>
                  <a:pt x="0" y="1513332"/>
                </a:moveTo>
                <a:lnTo>
                  <a:pt x="1152144" y="1513332"/>
                </a:lnTo>
                <a:lnTo>
                  <a:pt x="1152144" y="0"/>
                </a:lnTo>
                <a:lnTo>
                  <a:pt x="0" y="0"/>
                </a:lnTo>
                <a:lnTo>
                  <a:pt x="0" y="15133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bject 16"/>
          <p:cNvSpPr/>
          <p:nvPr/>
        </p:nvSpPr>
        <p:spPr>
          <a:xfrm>
            <a:off x="2471760" y="4819680"/>
            <a:ext cx="981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17"/>
          <p:cNvSpPr/>
          <p:nvPr/>
        </p:nvSpPr>
        <p:spPr>
          <a:xfrm>
            <a:off x="2451240" y="5149800"/>
            <a:ext cx="712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18"/>
          <p:cNvSpPr/>
          <p:nvPr/>
        </p:nvSpPr>
        <p:spPr>
          <a:xfrm>
            <a:off x="3978360" y="3774960"/>
            <a:ext cx="1150920" cy="1514520"/>
          </a:xfrm>
          <a:custGeom>
            <a:avLst/>
            <a:gdLst/>
            <a:ahLst/>
            <a:rect l="l" t="t" r="r" b="b"/>
            <a:pathLst>
              <a:path w="1152143" h="1513332">
                <a:moveTo>
                  <a:pt x="0" y="1513332"/>
                </a:moveTo>
                <a:lnTo>
                  <a:pt x="1152143" y="1513332"/>
                </a:lnTo>
                <a:lnTo>
                  <a:pt x="1152143" y="0"/>
                </a:lnTo>
                <a:lnTo>
                  <a:pt x="0" y="0"/>
                </a:lnTo>
                <a:lnTo>
                  <a:pt x="0" y="15133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20"/>
          <p:cNvSpPr/>
          <p:nvPr/>
        </p:nvSpPr>
        <p:spPr>
          <a:xfrm>
            <a:off x="4054320" y="4819680"/>
            <a:ext cx="981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bject 21"/>
          <p:cNvSpPr/>
          <p:nvPr/>
        </p:nvSpPr>
        <p:spPr>
          <a:xfrm>
            <a:off x="4054320" y="5124600"/>
            <a:ext cx="7128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22"/>
          <p:cNvSpPr/>
          <p:nvPr/>
        </p:nvSpPr>
        <p:spPr>
          <a:xfrm>
            <a:off x="7218360" y="3774960"/>
            <a:ext cx="1150920" cy="1514520"/>
          </a:xfrm>
          <a:custGeom>
            <a:avLst/>
            <a:gdLst/>
            <a:ahLst/>
            <a:rect l="l" t="t" r="r" b="b"/>
            <a:pathLst>
              <a:path w="1152144" h="1513332">
                <a:moveTo>
                  <a:pt x="0" y="1513332"/>
                </a:moveTo>
                <a:lnTo>
                  <a:pt x="1152144" y="1513332"/>
                </a:lnTo>
                <a:lnTo>
                  <a:pt x="1152144" y="0"/>
                </a:lnTo>
                <a:lnTo>
                  <a:pt x="0" y="0"/>
                </a:lnTo>
                <a:lnTo>
                  <a:pt x="0" y="15133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24"/>
          <p:cNvSpPr/>
          <p:nvPr/>
        </p:nvSpPr>
        <p:spPr>
          <a:xfrm>
            <a:off x="7296120" y="3121200"/>
            <a:ext cx="86364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397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object 25"/>
          <p:cNvSpPr/>
          <p:nvPr/>
        </p:nvSpPr>
        <p:spPr>
          <a:xfrm>
            <a:off x="2471760" y="4057560"/>
            <a:ext cx="9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26"/>
          <p:cNvSpPr/>
          <p:nvPr/>
        </p:nvSpPr>
        <p:spPr>
          <a:xfrm>
            <a:off x="2471760" y="4514760"/>
            <a:ext cx="853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27"/>
          <p:cNvSpPr/>
          <p:nvPr/>
        </p:nvSpPr>
        <p:spPr>
          <a:xfrm>
            <a:off x="4054320" y="4057560"/>
            <a:ext cx="981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bject 28"/>
          <p:cNvSpPr/>
          <p:nvPr/>
        </p:nvSpPr>
        <p:spPr>
          <a:xfrm>
            <a:off x="4054320" y="4514760"/>
            <a:ext cx="855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29"/>
          <p:cNvSpPr/>
          <p:nvPr/>
        </p:nvSpPr>
        <p:spPr>
          <a:xfrm>
            <a:off x="7304040" y="3851280"/>
            <a:ext cx="981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30"/>
          <p:cNvSpPr/>
          <p:nvPr/>
        </p:nvSpPr>
        <p:spPr>
          <a:xfrm>
            <a:off x="7304040" y="4156200"/>
            <a:ext cx="7146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bject 31"/>
          <p:cNvSpPr/>
          <p:nvPr/>
        </p:nvSpPr>
        <p:spPr>
          <a:xfrm>
            <a:off x="5560920" y="3774960"/>
            <a:ext cx="1152720" cy="1514520"/>
          </a:xfrm>
          <a:custGeom>
            <a:avLst/>
            <a:gdLst/>
            <a:ahLst/>
            <a:rect l="l" t="t" r="r" b="b"/>
            <a:pathLst>
              <a:path w="1152144" h="1513332">
                <a:moveTo>
                  <a:pt x="0" y="1513332"/>
                </a:moveTo>
                <a:lnTo>
                  <a:pt x="1152144" y="1513332"/>
                </a:lnTo>
                <a:lnTo>
                  <a:pt x="1152144" y="0"/>
                </a:lnTo>
                <a:lnTo>
                  <a:pt x="0" y="0"/>
                </a:lnTo>
                <a:lnTo>
                  <a:pt x="0" y="151333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33"/>
          <p:cNvSpPr/>
          <p:nvPr/>
        </p:nvSpPr>
        <p:spPr>
          <a:xfrm>
            <a:off x="5640480" y="3121200"/>
            <a:ext cx="8697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34"/>
          <p:cNvSpPr/>
          <p:nvPr/>
        </p:nvSpPr>
        <p:spPr>
          <a:xfrm>
            <a:off x="2471760" y="3753000"/>
            <a:ext cx="7286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35"/>
          <p:cNvSpPr/>
          <p:nvPr/>
        </p:nvSpPr>
        <p:spPr>
          <a:xfrm>
            <a:off x="4054320" y="3753000"/>
            <a:ext cx="7286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36"/>
          <p:cNvSpPr/>
          <p:nvPr/>
        </p:nvSpPr>
        <p:spPr>
          <a:xfrm>
            <a:off x="5656320" y="3809880"/>
            <a:ext cx="981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bject 37"/>
          <p:cNvSpPr/>
          <p:nvPr/>
        </p:nvSpPr>
        <p:spPr>
          <a:xfrm>
            <a:off x="5656320" y="4114800"/>
            <a:ext cx="712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object 2"/>
          <p:cNvSpPr/>
          <p:nvPr/>
        </p:nvSpPr>
        <p:spPr>
          <a:xfrm>
            <a:off x="773280" y="347760"/>
            <a:ext cx="9144000" cy="10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ject 3"/>
          <p:cNvSpPr/>
          <p:nvPr/>
        </p:nvSpPr>
        <p:spPr>
          <a:xfrm>
            <a:off x="1308240" y="1743120"/>
            <a:ext cx="803088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通道增加规则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ts val="55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主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必定有一侧是空的，主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应当两侧都连接副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需要增加一个通道时， 如果当前是主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则需要将其替换为主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并增加一个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128000"/>
              </a:lnSpc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； 如果当前是主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则需要把外侧的副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替换为副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并 在该副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另一侧增加一个副门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ts val="55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19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，需要增加多个通道时，按叠加一个通道的方式进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bject 2"/>
          <p:cNvSpPr/>
          <p:nvPr/>
        </p:nvSpPr>
        <p:spPr>
          <a:xfrm>
            <a:off x="773280" y="347760"/>
            <a:ext cx="9144000" cy="10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bject 3"/>
          <p:cNvSpPr/>
          <p:nvPr/>
        </p:nvSpPr>
        <p:spPr>
          <a:xfrm>
            <a:off x="1319040" y="1285920"/>
            <a:ext cx="71136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单通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28920" y="1327320"/>
            <a:ext cx="1152360" cy="2233440"/>
          </a:xfrm>
          <a:custGeom>
            <a:avLst/>
            <a:gdLst/>
            <a:ahLst/>
            <a:rect l="l" t="t" r="r" b="b"/>
            <a:pathLst>
              <a:path w="1152144" h="2232660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5"/>
          <p:cNvSpPr/>
          <p:nvPr/>
        </p:nvSpPr>
        <p:spPr>
          <a:xfrm>
            <a:off x="2417760" y="1316160"/>
            <a:ext cx="1176480" cy="2257200"/>
          </a:xfrm>
          <a:custGeom>
            <a:avLst/>
            <a:gdLst/>
            <a:ahLst/>
            <a:rect l="l" t="t" r="r" b="b"/>
            <a:pathLst>
              <a:path w="1176527" h="2257043">
                <a:moveTo>
                  <a:pt x="1170432" y="0"/>
                </a:moveTo>
                <a:lnTo>
                  <a:pt x="4572" y="0"/>
                </a:lnTo>
                <a:lnTo>
                  <a:pt x="0" y="4571"/>
                </a:lnTo>
                <a:lnTo>
                  <a:pt x="0" y="2250947"/>
                </a:lnTo>
                <a:lnTo>
                  <a:pt x="4572" y="2257043"/>
                </a:lnTo>
                <a:lnTo>
                  <a:pt x="1170432" y="2257043"/>
                </a:lnTo>
                <a:lnTo>
                  <a:pt x="1176528" y="2250947"/>
                </a:lnTo>
                <a:lnTo>
                  <a:pt x="1176528" y="2244852"/>
                </a:lnTo>
                <a:lnTo>
                  <a:pt x="24384" y="2244852"/>
                </a:lnTo>
                <a:lnTo>
                  <a:pt x="12192" y="2231135"/>
                </a:lnTo>
                <a:lnTo>
                  <a:pt x="24384" y="2231135"/>
                </a:lnTo>
                <a:lnTo>
                  <a:pt x="24384" y="24383"/>
                </a:lnTo>
                <a:lnTo>
                  <a:pt x="12192" y="24383"/>
                </a:lnTo>
                <a:lnTo>
                  <a:pt x="24384" y="12191"/>
                </a:lnTo>
                <a:lnTo>
                  <a:pt x="1176528" y="12191"/>
                </a:lnTo>
                <a:lnTo>
                  <a:pt x="1176528" y="4571"/>
                </a:lnTo>
                <a:lnTo>
                  <a:pt x="1170432" y="0"/>
                </a:lnTo>
                <a:close/>
              </a:path>
              <a:path w="1176527" h="2257043">
                <a:moveTo>
                  <a:pt x="24384" y="2231135"/>
                </a:moveTo>
                <a:lnTo>
                  <a:pt x="12192" y="2231135"/>
                </a:lnTo>
                <a:lnTo>
                  <a:pt x="24384" y="2244852"/>
                </a:lnTo>
                <a:lnTo>
                  <a:pt x="24384" y="2231135"/>
                </a:lnTo>
                <a:close/>
              </a:path>
              <a:path w="1176527" h="2257043">
                <a:moveTo>
                  <a:pt x="1150620" y="2231135"/>
                </a:moveTo>
                <a:lnTo>
                  <a:pt x="24384" y="2231135"/>
                </a:lnTo>
                <a:lnTo>
                  <a:pt x="24384" y="2244852"/>
                </a:lnTo>
                <a:lnTo>
                  <a:pt x="1150620" y="2244852"/>
                </a:lnTo>
                <a:lnTo>
                  <a:pt x="1150620" y="2231135"/>
                </a:lnTo>
                <a:close/>
              </a:path>
              <a:path w="1176527" h="2257043">
                <a:moveTo>
                  <a:pt x="1150620" y="12191"/>
                </a:moveTo>
                <a:lnTo>
                  <a:pt x="1150620" y="2244852"/>
                </a:lnTo>
                <a:lnTo>
                  <a:pt x="1164336" y="2231135"/>
                </a:lnTo>
                <a:lnTo>
                  <a:pt x="1176528" y="2231136"/>
                </a:lnTo>
                <a:lnTo>
                  <a:pt x="1176528" y="24383"/>
                </a:lnTo>
                <a:lnTo>
                  <a:pt x="1164336" y="24383"/>
                </a:lnTo>
                <a:lnTo>
                  <a:pt x="1150620" y="12191"/>
                </a:lnTo>
                <a:close/>
              </a:path>
              <a:path w="1176527" h="2257043">
                <a:moveTo>
                  <a:pt x="1176528" y="2231136"/>
                </a:moveTo>
                <a:lnTo>
                  <a:pt x="1164336" y="2231135"/>
                </a:lnTo>
                <a:lnTo>
                  <a:pt x="1150620" y="2244852"/>
                </a:lnTo>
                <a:lnTo>
                  <a:pt x="1176528" y="2244852"/>
                </a:lnTo>
                <a:lnTo>
                  <a:pt x="1176528" y="2231136"/>
                </a:lnTo>
                <a:close/>
              </a:path>
              <a:path w="1176527" h="2257043">
                <a:moveTo>
                  <a:pt x="24384" y="12191"/>
                </a:moveTo>
                <a:lnTo>
                  <a:pt x="12192" y="24383"/>
                </a:lnTo>
                <a:lnTo>
                  <a:pt x="24384" y="24383"/>
                </a:lnTo>
                <a:lnTo>
                  <a:pt x="24384" y="12191"/>
                </a:lnTo>
                <a:close/>
              </a:path>
              <a:path w="1176527" h="2257043">
                <a:moveTo>
                  <a:pt x="1150620" y="12191"/>
                </a:moveTo>
                <a:lnTo>
                  <a:pt x="24384" y="12191"/>
                </a:lnTo>
                <a:lnTo>
                  <a:pt x="24384" y="24383"/>
                </a:lnTo>
                <a:lnTo>
                  <a:pt x="1150620" y="24383"/>
                </a:lnTo>
                <a:lnTo>
                  <a:pt x="1150620" y="12191"/>
                </a:lnTo>
                <a:close/>
              </a:path>
              <a:path w="1176527" h="2257043">
                <a:moveTo>
                  <a:pt x="1176528" y="12191"/>
                </a:moveTo>
                <a:lnTo>
                  <a:pt x="1150620" y="12191"/>
                </a:lnTo>
                <a:lnTo>
                  <a:pt x="1164336" y="24383"/>
                </a:lnTo>
                <a:lnTo>
                  <a:pt x="1176528" y="24383"/>
                </a:lnTo>
                <a:lnTo>
                  <a:pt x="1176528" y="12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bject 6"/>
          <p:cNvSpPr/>
          <p:nvPr/>
        </p:nvSpPr>
        <p:spPr>
          <a:xfrm>
            <a:off x="2508120" y="1392120"/>
            <a:ext cx="854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7"/>
          <p:cNvSpPr/>
          <p:nvPr/>
        </p:nvSpPr>
        <p:spPr>
          <a:xfrm>
            <a:off x="2508120" y="2081160"/>
            <a:ext cx="98136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8"/>
          <p:cNvSpPr/>
          <p:nvPr/>
        </p:nvSpPr>
        <p:spPr>
          <a:xfrm>
            <a:off x="2508120" y="2386080"/>
            <a:ext cx="712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ject 9"/>
          <p:cNvSpPr/>
          <p:nvPr/>
        </p:nvSpPr>
        <p:spPr>
          <a:xfrm>
            <a:off x="4157640" y="1327320"/>
            <a:ext cx="1152720" cy="2233440"/>
          </a:xfrm>
          <a:custGeom>
            <a:avLst/>
            <a:gdLst/>
            <a:ahLst/>
            <a:rect l="l" t="t" r="r" b="b"/>
            <a:pathLst>
              <a:path w="1152144" h="2232660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10"/>
          <p:cNvSpPr/>
          <p:nvPr/>
        </p:nvSpPr>
        <p:spPr>
          <a:xfrm>
            <a:off x="4145040" y="1316160"/>
            <a:ext cx="1176120" cy="2257200"/>
          </a:xfrm>
          <a:custGeom>
            <a:avLst/>
            <a:gdLst/>
            <a:ahLst/>
            <a:rect l="l" t="t" r="r" b="b"/>
            <a:pathLst>
              <a:path w="1176527" h="2257043">
                <a:moveTo>
                  <a:pt x="1170432" y="0"/>
                </a:moveTo>
                <a:lnTo>
                  <a:pt x="4572" y="0"/>
                </a:lnTo>
                <a:lnTo>
                  <a:pt x="0" y="4571"/>
                </a:lnTo>
                <a:lnTo>
                  <a:pt x="0" y="2250947"/>
                </a:lnTo>
                <a:lnTo>
                  <a:pt x="4572" y="2257043"/>
                </a:lnTo>
                <a:lnTo>
                  <a:pt x="1170432" y="2257043"/>
                </a:lnTo>
                <a:lnTo>
                  <a:pt x="1176528" y="2250947"/>
                </a:lnTo>
                <a:lnTo>
                  <a:pt x="1176528" y="2244852"/>
                </a:lnTo>
                <a:lnTo>
                  <a:pt x="24384" y="2244852"/>
                </a:lnTo>
                <a:lnTo>
                  <a:pt x="12192" y="2231135"/>
                </a:lnTo>
                <a:lnTo>
                  <a:pt x="24384" y="2231135"/>
                </a:lnTo>
                <a:lnTo>
                  <a:pt x="24384" y="24383"/>
                </a:lnTo>
                <a:lnTo>
                  <a:pt x="12192" y="24383"/>
                </a:lnTo>
                <a:lnTo>
                  <a:pt x="24384" y="12191"/>
                </a:lnTo>
                <a:lnTo>
                  <a:pt x="1176528" y="12191"/>
                </a:lnTo>
                <a:lnTo>
                  <a:pt x="1176528" y="4571"/>
                </a:lnTo>
                <a:lnTo>
                  <a:pt x="1170432" y="0"/>
                </a:lnTo>
                <a:close/>
              </a:path>
              <a:path w="1176527" h="2257043">
                <a:moveTo>
                  <a:pt x="24384" y="2231135"/>
                </a:moveTo>
                <a:lnTo>
                  <a:pt x="12192" y="2231135"/>
                </a:lnTo>
                <a:lnTo>
                  <a:pt x="24384" y="2244852"/>
                </a:lnTo>
                <a:lnTo>
                  <a:pt x="24384" y="2231135"/>
                </a:lnTo>
                <a:close/>
              </a:path>
              <a:path w="1176527" h="2257043">
                <a:moveTo>
                  <a:pt x="1150620" y="2231135"/>
                </a:moveTo>
                <a:lnTo>
                  <a:pt x="24384" y="2231135"/>
                </a:lnTo>
                <a:lnTo>
                  <a:pt x="24384" y="2244852"/>
                </a:lnTo>
                <a:lnTo>
                  <a:pt x="1150620" y="2244852"/>
                </a:lnTo>
                <a:lnTo>
                  <a:pt x="1150620" y="2231135"/>
                </a:lnTo>
                <a:close/>
              </a:path>
              <a:path w="1176527" h="2257043">
                <a:moveTo>
                  <a:pt x="1150620" y="12191"/>
                </a:moveTo>
                <a:lnTo>
                  <a:pt x="1150620" y="2244852"/>
                </a:lnTo>
                <a:lnTo>
                  <a:pt x="1164336" y="2231135"/>
                </a:lnTo>
                <a:lnTo>
                  <a:pt x="1176528" y="2231136"/>
                </a:lnTo>
                <a:lnTo>
                  <a:pt x="1176528" y="24383"/>
                </a:lnTo>
                <a:lnTo>
                  <a:pt x="1164336" y="24383"/>
                </a:lnTo>
                <a:lnTo>
                  <a:pt x="1150620" y="12191"/>
                </a:lnTo>
                <a:close/>
              </a:path>
              <a:path w="1176527" h="2257043">
                <a:moveTo>
                  <a:pt x="1176528" y="2231136"/>
                </a:moveTo>
                <a:lnTo>
                  <a:pt x="1164336" y="2231135"/>
                </a:lnTo>
                <a:lnTo>
                  <a:pt x="1150620" y="2244852"/>
                </a:lnTo>
                <a:lnTo>
                  <a:pt x="1176528" y="2244852"/>
                </a:lnTo>
                <a:lnTo>
                  <a:pt x="1176528" y="2231136"/>
                </a:lnTo>
                <a:close/>
              </a:path>
              <a:path w="1176527" h="2257043">
                <a:moveTo>
                  <a:pt x="24384" y="12191"/>
                </a:moveTo>
                <a:lnTo>
                  <a:pt x="12192" y="24383"/>
                </a:lnTo>
                <a:lnTo>
                  <a:pt x="24384" y="24383"/>
                </a:lnTo>
                <a:lnTo>
                  <a:pt x="24384" y="12191"/>
                </a:lnTo>
                <a:close/>
              </a:path>
              <a:path w="1176527" h="2257043">
                <a:moveTo>
                  <a:pt x="1150620" y="12191"/>
                </a:moveTo>
                <a:lnTo>
                  <a:pt x="24384" y="12191"/>
                </a:lnTo>
                <a:lnTo>
                  <a:pt x="24384" y="24383"/>
                </a:lnTo>
                <a:lnTo>
                  <a:pt x="1150620" y="24383"/>
                </a:lnTo>
                <a:lnTo>
                  <a:pt x="1150620" y="12191"/>
                </a:lnTo>
                <a:close/>
              </a:path>
              <a:path w="1176527" h="2257043">
                <a:moveTo>
                  <a:pt x="1176528" y="12191"/>
                </a:moveTo>
                <a:lnTo>
                  <a:pt x="1150620" y="12191"/>
                </a:lnTo>
                <a:lnTo>
                  <a:pt x="1164336" y="24383"/>
                </a:lnTo>
                <a:lnTo>
                  <a:pt x="1176528" y="24383"/>
                </a:lnTo>
                <a:lnTo>
                  <a:pt x="1176528" y="12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11"/>
          <p:cNvSpPr/>
          <p:nvPr/>
        </p:nvSpPr>
        <p:spPr>
          <a:xfrm>
            <a:off x="4235400" y="1314360"/>
            <a:ext cx="9651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ject 12"/>
          <p:cNvSpPr/>
          <p:nvPr/>
        </p:nvSpPr>
        <p:spPr>
          <a:xfrm>
            <a:off x="4235400" y="2023920"/>
            <a:ext cx="72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13"/>
          <p:cNvSpPr/>
          <p:nvPr/>
        </p:nvSpPr>
        <p:spPr>
          <a:xfrm>
            <a:off x="4235400" y="2328840"/>
            <a:ext cx="9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14"/>
          <p:cNvSpPr/>
          <p:nvPr/>
        </p:nvSpPr>
        <p:spPr>
          <a:xfrm>
            <a:off x="4235400" y="2786040"/>
            <a:ext cx="981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15"/>
          <p:cNvSpPr/>
          <p:nvPr/>
        </p:nvSpPr>
        <p:spPr>
          <a:xfrm>
            <a:off x="1174680" y="4238640"/>
            <a:ext cx="711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双通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16"/>
          <p:cNvSpPr/>
          <p:nvPr/>
        </p:nvSpPr>
        <p:spPr>
          <a:xfrm>
            <a:off x="2463840" y="4208400"/>
            <a:ext cx="1152360" cy="2232000"/>
          </a:xfrm>
          <a:custGeom>
            <a:avLst/>
            <a:gdLst/>
            <a:ahLst/>
            <a:rect l="l" t="t" r="r" b="b"/>
            <a:pathLst>
              <a:path w="1152144" h="2232659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17"/>
          <p:cNvSpPr/>
          <p:nvPr/>
        </p:nvSpPr>
        <p:spPr>
          <a:xfrm>
            <a:off x="2452680" y="4195800"/>
            <a:ext cx="1177920" cy="2257560"/>
          </a:xfrm>
          <a:custGeom>
            <a:avLst/>
            <a:gdLst/>
            <a:ahLst/>
            <a:rect l="l" t="t" r="r" b="b"/>
            <a:pathLst>
              <a:path w="1178052" h="2257043">
                <a:moveTo>
                  <a:pt x="1171956" y="0"/>
                </a:moveTo>
                <a:lnTo>
                  <a:pt x="6096" y="0"/>
                </a:lnTo>
                <a:lnTo>
                  <a:pt x="0" y="4571"/>
                </a:lnTo>
                <a:lnTo>
                  <a:pt x="0" y="2250947"/>
                </a:lnTo>
                <a:lnTo>
                  <a:pt x="6096" y="2257043"/>
                </a:lnTo>
                <a:lnTo>
                  <a:pt x="1171956" y="2257043"/>
                </a:lnTo>
                <a:lnTo>
                  <a:pt x="1178052" y="2250947"/>
                </a:lnTo>
                <a:lnTo>
                  <a:pt x="1178052" y="2244852"/>
                </a:lnTo>
                <a:lnTo>
                  <a:pt x="25908" y="2244852"/>
                </a:lnTo>
                <a:lnTo>
                  <a:pt x="12192" y="2231135"/>
                </a:lnTo>
                <a:lnTo>
                  <a:pt x="25908" y="2231135"/>
                </a:lnTo>
                <a:lnTo>
                  <a:pt x="25908" y="24383"/>
                </a:lnTo>
                <a:lnTo>
                  <a:pt x="12192" y="24383"/>
                </a:lnTo>
                <a:lnTo>
                  <a:pt x="25908" y="12191"/>
                </a:lnTo>
                <a:lnTo>
                  <a:pt x="1178052" y="12191"/>
                </a:lnTo>
                <a:lnTo>
                  <a:pt x="1178052" y="4571"/>
                </a:lnTo>
                <a:lnTo>
                  <a:pt x="1171956" y="0"/>
                </a:lnTo>
                <a:close/>
              </a:path>
              <a:path w="1178052" h="2257043">
                <a:moveTo>
                  <a:pt x="25908" y="2231135"/>
                </a:moveTo>
                <a:lnTo>
                  <a:pt x="12192" y="2231135"/>
                </a:lnTo>
                <a:lnTo>
                  <a:pt x="25908" y="2244852"/>
                </a:lnTo>
                <a:lnTo>
                  <a:pt x="25908" y="2231135"/>
                </a:lnTo>
                <a:close/>
              </a:path>
              <a:path w="1178052" h="2257043">
                <a:moveTo>
                  <a:pt x="1152144" y="2231135"/>
                </a:moveTo>
                <a:lnTo>
                  <a:pt x="25908" y="2231135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5"/>
                </a:lnTo>
                <a:close/>
              </a:path>
              <a:path w="1178052" h="2257043">
                <a:moveTo>
                  <a:pt x="1152144" y="12191"/>
                </a:moveTo>
                <a:lnTo>
                  <a:pt x="1152144" y="2244852"/>
                </a:lnTo>
                <a:lnTo>
                  <a:pt x="1164336" y="2231135"/>
                </a:lnTo>
                <a:lnTo>
                  <a:pt x="1178052" y="2231135"/>
                </a:lnTo>
                <a:lnTo>
                  <a:pt x="1178052" y="24383"/>
                </a:lnTo>
                <a:lnTo>
                  <a:pt x="1164336" y="24383"/>
                </a:lnTo>
                <a:lnTo>
                  <a:pt x="1152144" y="12191"/>
                </a:lnTo>
                <a:close/>
              </a:path>
              <a:path w="1178052" h="2257043">
                <a:moveTo>
                  <a:pt x="1178052" y="2231135"/>
                </a:moveTo>
                <a:lnTo>
                  <a:pt x="1164336" y="2231135"/>
                </a:lnTo>
                <a:lnTo>
                  <a:pt x="1152144" y="2244852"/>
                </a:lnTo>
                <a:lnTo>
                  <a:pt x="1178052" y="2244852"/>
                </a:lnTo>
                <a:lnTo>
                  <a:pt x="1178052" y="2231135"/>
                </a:lnTo>
                <a:close/>
              </a:path>
              <a:path w="1178052" h="2257043">
                <a:moveTo>
                  <a:pt x="25908" y="12191"/>
                </a:moveTo>
                <a:lnTo>
                  <a:pt x="12192" y="24383"/>
                </a:lnTo>
                <a:lnTo>
                  <a:pt x="25908" y="24383"/>
                </a:lnTo>
                <a:lnTo>
                  <a:pt x="25908" y="12191"/>
                </a:lnTo>
                <a:close/>
              </a:path>
              <a:path w="1178052" h="2257043">
                <a:moveTo>
                  <a:pt x="1152144" y="12191"/>
                </a:moveTo>
                <a:lnTo>
                  <a:pt x="25908" y="12191"/>
                </a:lnTo>
                <a:lnTo>
                  <a:pt x="25908" y="24383"/>
                </a:lnTo>
                <a:lnTo>
                  <a:pt x="1152144" y="24383"/>
                </a:lnTo>
                <a:lnTo>
                  <a:pt x="1152144" y="12191"/>
                </a:lnTo>
                <a:close/>
              </a:path>
              <a:path w="1178052" h="2257043">
                <a:moveTo>
                  <a:pt x="1178052" y="12191"/>
                </a:moveTo>
                <a:lnTo>
                  <a:pt x="1152144" y="12191"/>
                </a:lnTo>
                <a:lnTo>
                  <a:pt x="1164336" y="24383"/>
                </a:lnTo>
                <a:lnTo>
                  <a:pt x="1178052" y="24383"/>
                </a:lnTo>
                <a:lnTo>
                  <a:pt x="1178052" y="12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18"/>
          <p:cNvSpPr/>
          <p:nvPr/>
        </p:nvSpPr>
        <p:spPr>
          <a:xfrm>
            <a:off x="2527200" y="4273560"/>
            <a:ext cx="85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lnSpc>
                <a:spcPts val="1199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19"/>
          <p:cNvSpPr/>
          <p:nvPr/>
        </p:nvSpPr>
        <p:spPr>
          <a:xfrm>
            <a:off x="2527200" y="4986360"/>
            <a:ext cx="98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20"/>
          <p:cNvSpPr/>
          <p:nvPr/>
        </p:nvSpPr>
        <p:spPr>
          <a:xfrm>
            <a:off x="2527200" y="5291280"/>
            <a:ext cx="712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21"/>
          <p:cNvSpPr/>
          <p:nvPr/>
        </p:nvSpPr>
        <p:spPr>
          <a:xfrm>
            <a:off x="5830920" y="4208400"/>
            <a:ext cx="1152360" cy="2232000"/>
          </a:xfrm>
          <a:custGeom>
            <a:avLst/>
            <a:gdLst/>
            <a:ahLst/>
            <a:rect l="l" t="t" r="r" b="b"/>
            <a:pathLst>
              <a:path w="1152144" h="2232659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22"/>
          <p:cNvSpPr/>
          <p:nvPr/>
        </p:nvSpPr>
        <p:spPr>
          <a:xfrm>
            <a:off x="5818320" y="4195800"/>
            <a:ext cx="1177920" cy="2257560"/>
          </a:xfrm>
          <a:custGeom>
            <a:avLst/>
            <a:gdLst/>
            <a:ahLst/>
            <a:rect l="l" t="t" r="r" b="b"/>
            <a:pathLst>
              <a:path w="1178052" h="2257043">
                <a:moveTo>
                  <a:pt x="1171956" y="0"/>
                </a:moveTo>
                <a:lnTo>
                  <a:pt x="6096" y="0"/>
                </a:lnTo>
                <a:lnTo>
                  <a:pt x="0" y="4571"/>
                </a:lnTo>
                <a:lnTo>
                  <a:pt x="0" y="2250947"/>
                </a:lnTo>
                <a:lnTo>
                  <a:pt x="6096" y="2257043"/>
                </a:lnTo>
                <a:lnTo>
                  <a:pt x="1171956" y="2257043"/>
                </a:lnTo>
                <a:lnTo>
                  <a:pt x="1178052" y="2250947"/>
                </a:lnTo>
                <a:lnTo>
                  <a:pt x="1178052" y="2244852"/>
                </a:lnTo>
                <a:lnTo>
                  <a:pt x="25908" y="2244852"/>
                </a:lnTo>
                <a:lnTo>
                  <a:pt x="12192" y="2231135"/>
                </a:lnTo>
                <a:lnTo>
                  <a:pt x="25908" y="2231135"/>
                </a:lnTo>
                <a:lnTo>
                  <a:pt x="25908" y="24383"/>
                </a:lnTo>
                <a:lnTo>
                  <a:pt x="12192" y="24383"/>
                </a:lnTo>
                <a:lnTo>
                  <a:pt x="25908" y="12191"/>
                </a:lnTo>
                <a:lnTo>
                  <a:pt x="1178052" y="12191"/>
                </a:lnTo>
                <a:lnTo>
                  <a:pt x="1178052" y="4571"/>
                </a:lnTo>
                <a:lnTo>
                  <a:pt x="1171956" y="0"/>
                </a:lnTo>
                <a:close/>
              </a:path>
              <a:path w="1178052" h="2257043">
                <a:moveTo>
                  <a:pt x="25908" y="2231135"/>
                </a:moveTo>
                <a:lnTo>
                  <a:pt x="12192" y="2231135"/>
                </a:lnTo>
                <a:lnTo>
                  <a:pt x="25908" y="2244852"/>
                </a:lnTo>
                <a:lnTo>
                  <a:pt x="25908" y="2231135"/>
                </a:lnTo>
                <a:close/>
              </a:path>
              <a:path w="1178052" h="2257043">
                <a:moveTo>
                  <a:pt x="1152144" y="2231135"/>
                </a:moveTo>
                <a:lnTo>
                  <a:pt x="25908" y="2231135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5"/>
                </a:lnTo>
                <a:close/>
              </a:path>
              <a:path w="1178052" h="2257043">
                <a:moveTo>
                  <a:pt x="1152144" y="12191"/>
                </a:moveTo>
                <a:lnTo>
                  <a:pt x="1152144" y="2244852"/>
                </a:lnTo>
                <a:lnTo>
                  <a:pt x="1164336" y="2231135"/>
                </a:lnTo>
                <a:lnTo>
                  <a:pt x="1178052" y="2231135"/>
                </a:lnTo>
                <a:lnTo>
                  <a:pt x="1178052" y="24383"/>
                </a:lnTo>
                <a:lnTo>
                  <a:pt x="1164336" y="24383"/>
                </a:lnTo>
                <a:lnTo>
                  <a:pt x="1152144" y="12191"/>
                </a:lnTo>
                <a:close/>
              </a:path>
              <a:path w="1178052" h="2257043">
                <a:moveTo>
                  <a:pt x="1178052" y="2231135"/>
                </a:moveTo>
                <a:lnTo>
                  <a:pt x="1164336" y="2231135"/>
                </a:lnTo>
                <a:lnTo>
                  <a:pt x="1152144" y="2244852"/>
                </a:lnTo>
                <a:lnTo>
                  <a:pt x="1178052" y="2244852"/>
                </a:lnTo>
                <a:lnTo>
                  <a:pt x="1178052" y="2231135"/>
                </a:lnTo>
                <a:close/>
              </a:path>
              <a:path w="1178052" h="2257043">
                <a:moveTo>
                  <a:pt x="25908" y="12191"/>
                </a:moveTo>
                <a:lnTo>
                  <a:pt x="12192" y="24383"/>
                </a:lnTo>
                <a:lnTo>
                  <a:pt x="25908" y="24383"/>
                </a:lnTo>
                <a:lnTo>
                  <a:pt x="25908" y="12191"/>
                </a:lnTo>
                <a:close/>
              </a:path>
              <a:path w="1178052" h="2257043">
                <a:moveTo>
                  <a:pt x="1152144" y="12191"/>
                </a:moveTo>
                <a:lnTo>
                  <a:pt x="25908" y="12191"/>
                </a:lnTo>
                <a:lnTo>
                  <a:pt x="25908" y="24383"/>
                </a:lnTo>
                <a:lnTo>
                  <a:pt x="1152144" y="24383"/>
                </a:lnTo>
                <a:lnTo>
                  <a:pt x="1152144" y="12191"/>
                </a:lnTo>
                <a:close/>
              </a:path>
              <a:path w="1178052" h="2257043">
                <a:moveTo>
                  <a:pt x="1178052" y="12191"/>
                </a:moveTo>
                <a:lnTo>
                  <a:pt x="1152144" y="12191"/>
                </a:lnTo>
                <a:lnTo>
                  <a:pt x="1164336" y="24383"/>
                </a:lnTo>
                <a:lnTo>
                  <a:pt x="1178052" y="24383"/>
                </a:lnTo>
                <a:lnTo>
                  <a:pt x="1178052" y="12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23"/>
          <p:cNvSpPr/>
          <p:nvPr/>
        </p:nvSpPr>
        <p:spPr>
          <a:xfrm>
            <a:off x="5900760" y="4273560"/>
            <a:ext cx="855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ts val="11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24"/>
          <p:cNvSpPr/>
          <p:nvPr/>
        </p:nvSpPr>
        <p:spPr>
          <a:xfrm>
            <a:off x="5900760" y="4970520"/>
            <a:ext cx="981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25"/>
          <p:cNvSpPr/>
          <p:nvPr/>
        </p:nvSpPr>
        <p:spPr>
          <a:xfrm>
            <a:off x="5900760" y="5275440"/>
            <a:ext cx="7142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bject 26"/>
          <p:cNvSpPr/>
          <p:nvPr/>
        </p:nvSpPr>
        <p:spPr>
          <a:xfrm>
            <a:off x="4157640" y="4208400"/>
            <a:ext cx="1152720" cy="2232000"/>
          </a:xfrm>
          <a:custGeom>
            <a:avLst/>
            <a:gdLst/>
            <a:ahLst/>
            <a:rect l="l" t="t" r="r" b="b"/>
            <a:pathLst>
              <a:path w="1152144" h="2232659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27"/>
          <p:cNvSpPr/>
          <p:nvPr/>
        </p:nvSpPr>
        <p:spPr>
          <a:xfrm>
            <a:off x="4145040" y="4195800"/>
            <a:ext cx="1176120" cy="2257560"/>
          </a:xfrm>
          <a:custGeom>
            <a:avLst/>
            <a:gdLst/>
            <a:ahLst/>
            <a:rect l="l" t="t" r="r" b="b"/>
            <a:pathLst>
              <a:path w="1176527" h="2257043">
                <a:moveTo>
                  <a:pt x="1170432" y="0"/>
                </a:moveTo>
                <a:lnTo>
                  <a:pt x="4572" y="0"/>
                </a:lnTo>
                <a:lnTo>
                  <a:pt x="0" y="4571"/>
                </a:lnTo>
                <a:lnTo>
                  <a:pt x="0" y="2250947"/>
                </a:lnTo>
                <a:lnTo>
                  <a:pt x="4572" y="2257043"/>
                </a:lnTo>
                <a:lnTo>
                  <a:pt x="1170432" y="2257043"/>
                </a:lnTo>
                <a:lnTo>
                  <a:pt x="1176528" y="2250947"/>
                </a:lnTo>
                <a:lnTo>
                  <a:pt x="1176528" y="2244852"/>
                </a:lnTo>
                <a:lnTo>
                  <a:pt x="24384" y="2244852"/>
                </a:lnTo>
                <a:lnTo>
                  <a:pt x="12192" y="2231135"/>
                </a:lnTo>
                <a:lnTo>
                  <a:pt x="24384" y="2231135"/>
                </a:lnTo>
                <a:lnTo>
                  <a:pt x="24384" y="24383"/>
                </a:lnTo>
                <a:lnTo>
                  <a:pt x="12192" y="24383"/>
                </a:lnTo>
                <a:lnTo>
                  <a:pt x="24384" y="12191"/>
                </a:lnTo>
                <a:lnTo>
                  <a:pt x="1176528" y="12191"/>
                </a:lnTo>
                <a:lnTo>
                  <a:pt x="1176528" y="4571"/>
                </a:lnTo>
                <a:lnTo>
                  <a:pt x="1170432" y="0"/>
                </a:lnTo>
                <a:close/>
              </a:path>
              <a:path w="1176527" h="2257043">
                <a:moveTo>
                  <a:pt x="24384" y="2231135"/>
                </a:moveTo>
                <a:lnTo>
                  <a:pt x="12192" y="2231135"/>
                </a:lnTo>
                <a:lnTo>
                  <a:pt x="24384" y="2244852"/>
                </a:lnTo>
                <a:lnTo>
                  <a:pt x="24384" y="2231135"/>
                </a:lnTo>
                <a:close/>
              </a:path>
              <a:path w="1176527" h="2257043">
                <a:moveTo>
                  <a:pt x="1150620" y="2231135"/>
                </a:moveTo>
                <a:lnTo>
                  <a:pt x="24384" y="2231135"/>
                </a:lnTo>
                <a:lnTo>
                  <a:pt x="24384" y="2244852"/>
                </a:lnTo>
                <a:lnTo>
                  <a:pt x="1150620" y="2244852"/>
                </a:lnTo>
                <a:lnTo>
                  <a:pt x="1150620" y="2231135"/>
                </a:lnTo>
                <a:close/>
              </a:path>
              <a:path w="1176527" h="2257043">
                <a:moveTo>
                  <a:pt x="1150620" y="12191"/>
                </a:moveTo>
                <a:lnTo>
                  <a:pt x="1150620" y="2244852"/>
                </a:lnTo>
                <a:lnTo>
                  <a:pt x="1164336" y="2231135"/>
                </a:lnTo>
                <a:lnTo>
                  <a:pt x="1176528" y="2231136"/>
                </a:lnTo>
                <a:lnTo>
                  <a:pt x="1176528" y="24383"/>
                </a:lnTo>
                <a:lnTo>
                  <a:pt x="1164336" y="24383"/>
                </a:lnTo>
                <a:lnTo>
                  <a:pt x="1150620" y="12191"/>
                </a:lnTo>
                <a:close/>
              </a:path>
              <a:path w="1176527" h="2257043">
                <a:moveTo>
                  <a:pt x="1176528" y="2231136"/>
                </a:moveTo>
                <a:lnTo>
                  <a:pt x="1164336" y="2231135"/>
                </a:lnTo>
                <a:lnTo>
                  <a:pt x="1150620" y="2244852"/>
                </a:lnTo>
                <a:lnTo>
                  <a:pt x="1176528" y="2244852"/>
                </a:lnTo>
                <a:lnTo>
                  <a:pt x="1176528" y="2231136"/>
                </a:lnTo>
                <a:close/>
              </a:path>
              <a:path w="1176527" h="2257043">
                <a:moveTo>
                  <a:pt x="24384" y="12191"/>
                </a:moveTo>
                <a:lnTo>
                  <a:pt x="12192" y="24383"/>
                </a:lnTo>
                <a:lnTo>
                  <a:pt x="24384" y="24383"/>
                </a:lnTo>
                <a:lnTo>
                  <a:pt x="24384" y="12191"/>
                </a:lnTo>
                <a:close/>
              </a:path>
              <a:path w="1176527" h="2257043">
                <a:moveTo>
                  <a:pt x="1150620" y="12191"/>
                </a:moveTo>
                <a:lnTo>
                  <a:pt x="24384" y="12191"/>
                </a:lnTo>
                <a:lnTo>
                  <a:pt x="24384" y="24383"/>
                </a:lnTo>
                <a:lnTo>
                  <a:pt x="1150620" y="24383"/>
                </a:lnTo>
                <a:lnTo>
                  <a:pt x="1150620" y="12191"/>
                </a:lnTo>
                <a:close/>
              </a:path>
              <a:path w="1176527" h="2257043">
                <a:moveTo>
                  <a:pt x="1176528" y="12191"/>
                </a:moveTo>
                <a:lnTo>
                  <a:pt x="1150620" y="12191"/>
                </a:lnTo>
                <a:lnTo>
                  <a:pt x="1164336" y="24383"/>
                </a:lnTo>
                <a:lnTo>
                  <a:pt x="1176528" y="24383"/>
                </a:lnTo>
                <a:lnTo>
                  <a:pt x="1176528" y="121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28"/>
          <p:cNvSpPr/>
          <p:nvPr/>
        </p:nvSpPr>
        <p:spPr>
          <a:xfrm>
            <a:off x="4235400" y="4194000"/>
            <a:ext cx="96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29"/>
          <p:cNvSpPr/>
          <p:nvPr/>
        </p:nvSpPr>
        <p:spPr>
          <a:xfrm>
            <a:off x="4235400" y="4903920"/>
            <a:ext cx="7272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30"/>
          <p:cNvSpPr/>
          <p:nvPr/>
        </p:nvSpPr>
        <p:spPr>
          <a:xfrm>
            <a:off x="4235400" y="5208480"/>
            <a:ext cx="98100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31"/>
          <p:cNvSpPr/>
          <p:nvPr/>
        </p:nvSpPr>
        <p:spPr>
          <a:xfrm>
            <a:off x="4235400" y="5665680"/>
            <a:ext cx="9810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bject 2"/>
          <p:cNvSpPr/>
          <p:nvPr/>
        </p:nvSpPr>
        <p:spPr>
          <a:xfrm>
            <a:off x="773280" y="347760"/>
            <a:ext cx="9144000" cy="10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3"/>
          <p:cNvSpPr/>
          <p:nvPr/>
        </p:nvSpPr>
        <p:spPr>
          <a:xfrm>
            <a:off x="851040" y="1098720"/>
            <a:ext cx="71100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三通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bject 4"/>
          <p:cNvSpPr/>
          <p:nvPr/>
        </p:nvSpPr>
        <p:spPr>
          <a:xfrm>
            <a:off x="1025640" y="1544760"/>
            <a:ext cx="1150920" cy="2230200"/>
          </a:xfrm>
          <a:custGeom>
            <a:avLst/>
            <a:gdLst/>
            <a:ahLst/>
            <a:rect l="l" t="t" r="r" b="b"/>
            <a:pathLst>
              <a:path w="1150620" h="2231136">
                <a:moveTo>
                  <a:pt x="0" y="2231136"/>
                </a:moveTo>
                <a:lnTo>
                  <a:pt x="1150620" y="2231136"/>
                </a:lnTo>
                <a:lnTo>
                  <a:pt x="1150620" y="0"/>
                </a:lnTo>
                <a:lnTo>
                  <a:pt x="0" y="0"/>
                </a:lnTo>
                <a:lnTo>
                  <a:pt x="0" y="223113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5"/>
          <p:cNvSpPr/>
          <p:nvPr/>
        </p:nvSpPr>
        <p:spPr>
          <a:xfrm>
            <a:off x="1085760" y="1609560"/>
            <a:ext cx="8557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lnSpc>
                <a:spcPts val="11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6"/>
          <p:cNvSpPr/>
          <p:nvPr/>
        </p:nvSpPr>
        <p:spPr>
          <a:xfrm>
            <a:off x="1085760" y="2306520"/>
            <a:ext cx="981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7"/>
          <p:cNvSpPr/>
          <p:nvPr/>
        </p:nvSpPr>
        <p:spPr>
          <a:xfrm>
            <a:off x="1085760" y="2611440"/>
            <a:ext cx="714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ject 8"/>
          <p:cNvSpPr/>
          <p:nvPr/>
        </p:nvSpPr>
        <p:spPr>
          <a:xfrm>
            <a:off x="2610000" y="1544760"/>
            <a:ext cx="1150920" cy="2230200"/>
          </a:xfrm>
          <a:custGeom>
            <a:avLst/>
            <a:gdLst/>
            <a:ahLst/>
            <a:rect l="l" t="t" r="r" b="b"/>
            <a:pathLst>
              <a:path w="1152143" h="2231136">
                <a:moveTo>
                  <a:pt x="0" y="2231136"/>
                </a:moveTo>
                <a:lnTo>
                  <a:pt x="1152143" y="2231136"/>
                </a:lnTo>
                <a:lnTo>
                  <a:pt x="1152143" y="0"/>
                </a:lnTo>
                <a:lnTo>
                  <a:pt x="0" y="0"/>
                </a:lnTo>
                <a:lnTo>
                  <a:pt x="0" y="223113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9"/>
          <p:cNvSpPr/>
          <p:nvPr/>
        </p:nvSpPr>
        <p:spPr>
          <a:xfrm>
            <a:off x="2687760" y="1530360"/>
            <a:ext cx="96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bject 10"/>
          <p:cNvSpPr/>
          <p:nvPr/>
        </p:nvSpPr>
        <p:spPr>
          <a:xfrm>
            <a:off x="2687760" y="2239920"/>
            <a:ext cx="7286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ject 11"/>
          <p:cNvSpPr/>
          <p:nvPr/>
        </p:nvSpPr>
        <p:spPr>
          <a:xfrm>
            <a:off x="2687760" y="2544840"/>
            <a:ext cx="981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object 12"/>
          <p:cNvSpPr/>
          <p:nvPr/>
        </p:nvSpPr>
        <p:spPr>
          <a:xfrm>
            <a:off x="2687760" y="3002040"/>
            <a:ext cx="855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object 13"/>
          <p:cNvSpPr/>
          <p:nvPr/>
        </p:nvSpPr>
        <p:spPr>
          <a:xfrm>
            <a:off x="2687760" y="3306600"/>
            <a:ext cx="981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ject 14"/>
          <p:cNvSpPr/>
          <p:nvPr/>
        </p:nvSpPr>
        <p:spPr>
          <a:xfrm>
            <a:off x="2687760" y="3611520"/>
            <a:ext cx="712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object 15"/>
          <p:cNvSpPr/>
          <p:nvPr/>
        </p:nvSpPr>
        <p:spPr>
          <a:xfrm>
            <a:off x="4336920" y="1544760"/>
            <a:ext cx="1152720" cy="2230200"/>
          </a:xfrm>
          <a:custGeom>
            <a:avLst/>
            <a:gdLst/>
            <a:ahLst/>
            <a:rect l="l" t="t" r="r" b="b"/>
            <a:pathLst>
              <a:path w="1152144" h="2231136">
                <a:moveTo>
                  <a:pt x="0" y="2231136"/>
                </a:moveTo>
                <a:lnTo>
                  <a:pt x="1152144" y="2231136"/>
                </a:lnTo>
                <a:lnTo>
                  <a:pt x="1152144" y="0"/>
                </a:lnTo>
                <a:lnTo>
                  <a:pt x="0" y="0"/>
                </a:lnTo>
                <a:lnTo>
                  <a:pt x="0" y="223113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object 16"/>
          <p:cNvSpPr/>
          <p:nvPr/>
        </p:nvSpPr>
        <p:spPr>
          <a:xfrm>
            <a:off x="4416480" y="1609560"/>
            <a:ext cx="853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99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ject 17"/>
          <p:cNvSpPr/>
          <p:nvPr/>
        </p:nvSpPr>
        <p:spPr>
          <a:xfrm>
            <a:off x="4416480" y="2289240"/>
            <a:ext cx="98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bject 18"/>
          <p:cNvSpPr/>
          <p:nvPr/>
        </p:nvSpPr>
        <p:spPr>
          <a:xfrm>
            <a:off x="4416480" y="2593800"/>
            <a:ext cx="7128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bject 19"/>
          <p:cNvSpPr/>
          <p:nvPr/>
        </p:nvSpPr>
        <p:spPr>
          <a:xfrm>
            <a:off x="6029280" y="1544760"/>
            <a:ext cx="1152720" cy="2230200"/>
          </a:xfrm>
          <a:custGeom>
            <a:avLst/>
            <a:gdLst/>
            <a:ahLst/>
            <a:rect l="l" t="t" r="r" b="b"/>
            <a:pathLst>
              <a:path w="1152144" h="2231136">
                <a:moveTo>
                  <a:pt x="0" y="2231136"/>
                </a:moveTo>
                <a:lnTo>
                  <a:pt x="1152144" y="2231136"/>
                </a:lnTo>
                <a:lnTo>
                  <a:pt x="1152144" y="0"/>
                </a:lnTo>
                <a:lnTo>
                  <a:pt x="0" y="0"/>
                </a:lnTo>
                <a:lnTo>
                  <a:pt x="0" y="2231136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ject 20"/>
          <p:cNvSpPr/>
          <p:nvPr/>
        </p:nvSpPr>
        <p:spPr>
          <a:xfrm>
            <a:off x="6107040" y="1530360"/>
            <a:ext cx="96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bject 21"/>
          <p:cNvSpPr/>
          <p:nvPr/>
        </p:nvSpPr>
        <p:spPr>
          <a:xfrm>
            <a:off x="6107040" y="2239920"/>
            <a:ext cx="7286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object 22"/>
          <p:cNvSpPr/>
          <p:nvPr/>
        </p:nvSpPr>
        <p:spPr>
          <a:xfrm>
            <a:off x="6107040" y="2544840"/>
            <a:ext cx="9810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ject 23"/>
          <p:cNvSpPr/>
          <p:nvPr/>
        </p:nvSpPr>
        <p:spPr>
          <a:xfrm>
            <a:off x="6107040" y="3002040"/>
            <a:ext cx="8557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object 24"/>
          <p:cNvSpPr/>
          <p:nvPr/>
        </p:nvSpPr>
        <p:spPr>
          <a:xfrm>
            <a:off x="6107040" y="3306600"/>
            <a:ext cx="981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object 25"/>
          <p:cNvSpPr/>
          <p:nvPr/>
        </p:nvSpPr>
        <p:spPr>
          <a:xfrm>
            <a:off x="6107040" y="3611520"/>
            <a:ext cx="714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ject 26"/>
          <p:cNvSpPr/>
          <p:nvPr/>
        </p:nvSpPr>
        <p:spPr>
          <a:xfrm>
            <a:off x="887400" y="4049640"/>
            <a:ext cx="711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通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bject 27"/>
          <p:cNvSpPr/>
          <p:nvPr/>
        </p:nvSpPr>
        <p:spPr>
          <a:xfrm>
            <a:off x="1060560" y="4495680"/>
            <a:ext cx="1152360" cy="2233800"/>
          </a:xfrm>
          <a:custGeom>
            <a:avLst/>
            <a:gdLst/>
            <a:ahLst/>
            <a:rect l="l" t="t" r="r" b="b"/>
            <a:pathLst>
              <a:path w="1152144" h="2232659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ject 28"/>
          <p:cNvSpPr/>
          <p:nvPr/>
        </p:nvSpPr>
        <p:spPr>
          <a:xfrm>
            <a:off x="1047600" y="4484520"/>
            <a:ext cx="1177920" cy="2256120"/>
          </a:xfrm>
          <a:custGeom>
            <a:avLst/>
            <a:gdLst/>
            <a:ahLst/>
            <a:rect l="l" t="t" r="r" b="b"/>
            <a:pathLst>
              <a:path w="1176527" h="2257044">
                <a:moveTo>
                  <a:pt x="1171956" y="0"/>
                </a:moveTo>
                <a:lnTo>
                  <a:pt x="6096" y="0"/>
                </a:lnTo>
                <a:lnTo>
                  <a:pt x="0" y="4572"/>
                </a:lnTo>
                <a:lnTo>
                  <a:pt x="0" y="2250948"/>
                </a:lnTo>
                <a:lnTo>
                  <a:pt x="6096" y="2257044"/>
                </a:lnTo>
                <a:lnTo>
                  <a:pt x="1171956" y="2257044"/>
                </a:lnTo>
                <a:lnTo>
                  <a:pt x="1176528" y="2250948"/>
                </a:lnTo>
                <a:lnTo>
                  <a:pt x="1176528" y="2244852"/>
                </a:lnTo>
                <a:lnTo>
                  <a:pt x="25908" y="2244852"/>
                </a:lnTo>
                <a:lnTo>
                  <a:pt x="12192" y="2231136"/>
                </a:lnTo>
                <a:lnTo>
                  <a:pt x="25908" y="2231136"/>
                </a:lnTo>
                <a:lnTo>
                  <a:pt x="25908" y="24384"/>
                </a:lnTo>
                <a:lnTo>
                  <a:pt x="12192" y="24384"/>
                </a:lnTo>
                <a:lnTo>
                  <a:pt x="25908" y="12192"/>
                </a:lnTo>
                <a:lnTo>
                  <a:pt x="1176528" y="12192"/>
                </a:lnTo>
                <a:lnTo>
                  <a:pt x="1176528" y="4572"/>
                </a:lnTo>
                <a:lnTo>
                  <a:pt x="1171956" y="0"/>
                </a:lnTo>
                <a:close/>
              </a:path>
              <a:path w="1176527" h="2257044">
                <a:moveTo>
                  <a:pt x="25908" y="2231136"/>
                </a:moveTo>
                <a:lnTo>
                  <a:pt x="12192" y="2231136"/>
                </a:lnTo>
                <a:lnTo>
                  <a:pt x="25908" y="2244852"/>
                </a:lnTo>
                <a:lnTo>
                  <a:pt x="25908" y="2231136"/>
                </a:lnTo>
                <a:close/>
              </a:path>
              <a:path w="1176527" h="2257044">
                <a:moveTo>
                  <a:pt x="1152144" y="2231136"/>
                </a:moveTo>
                <a:lnTo>
                  <a:pt x="25908" y="2231136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6"/>
                </a:lnTo>
                <a:close/>
              </a:path>
              <a:path w="1176527" h="2257044">
                <a:moveTo>
                  <a:pt x="1152144" y="12192"/>
                </a:moveTo>
                <a:lnTo>
                  <a:pt x="1152144" y="2244852"/>
                </a:lnTo>
                <a:lnTo>
                  <a:pt x="1164336" y="2231136"/>
                </a:lnTo>
                <a:lnTo>
                  <a:pt x="1176528" y="2231136"/>
                </a:lnTo>
                <a:lnTo>
                  <a:pt x="1176528" y="24384"/>
                </a:lnTo>
                <a:lnTo>
                  <a:pt x="1164336" y="24384"/>
                </a:lnTo>
                <a:lnTo>
                  <a:pt x="1152144" y="12192"/>
                </a:lnTo>
                <a:close/>
              </a:path>
              <a:path w="1176527" h="2257044">
                <a:moveTo>
                  <a:pt x="1176528" y="2231136"/>
                </a:moveTo>
                <a:lnTo>
                  <a:pt x="1164336" y="2231136"/>
                </a:lnTo>
                <a:lnTo>
                  <a:pt x="1152144" y="2244852"/>
                </a:lnTo>
                <a:lnTo>
                  <a:pt x="1176528" y="2244852"/>
                </a:lnTo>
                <a:lnTo>
                  <a:pt x="1176528" y="2231136"/>
                </a:lnTo>
                <a:close/>
              </a:path>
              <a:path w="1176527" h="2257044">
                <a:moveTo>
                  <a:pt x="25908" y="12192"/>
                </a:moveTo>
                <a:lnTo>
                  <a:pt x="12192" y="24384"/>
                </a:lnTo>
                <a:lnTo>
                  <a:pt x="25908" y="24384"/>
                </a:lnTo>
                <a:lnTo>
                  <a:pt x="25908" y="12192"/>
                </a:lnTo>
                <a:close/>
              </a:path>
              <a:path w="1176527" h="2257044">
                <a:moveTo>
                  <a:pt x="1152144" y="12192"/>
                </a:moveTo>
                <a:lnTo>
                  <a:pt x="25908" y="12192"/>
                </a:lnTo>
                <a:lnTo>
                  <a:pt x="25908" y="24384"/>
                </a:lnTo>
                <a:lnTo>
                  <a:pt x="1152144" y="24384"/>
                </a:lnTo>
                <a:lnTo>
                  <a:pt x="1152144" y="12192"/>
                </a:lnTo>
                <a:close/>
              </a:path>
              <a:path w="1176527" h="2257044">
                <a:moveTo>
                  <a:pt x="1176528" y="12192"/>
                </a:moveTo>
                <a:lnTo>
                  <a:pt x="1152144" y="12192"/>
                </a:lnTo>
                <a:lnTo>
                  <a:pt x="1164336" y="24384"/>
                </a:lnTo>
                <a:lnTo>
                  <a:pt x="1176528" y="24384"/>
                </a:lnTo>
                <a:lnTo>
                  <a:pt x="1176528" y="12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bject 29"/>
          <p:cNvSpPr/>
          <p:nvPr/>
        </p:nvSpPr>
        <p:spPr>
          <a:xfrm>
            <a:off x="1131840" y="4560840"/>
            <a:ext cx="854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ts val="1298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object 30"/>
          <p:cNvSpPr/>
          <p:nvPr/>
        </p:nvSpPr>
        <p:spPr>
          <a:xfrm>
            <a:off x="1131840" y="5281560"/>
            <a:ext cx="9810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ject 31"/>
          <p:cNvSpPr/>
          <p:nvPr/>
        </p:nvSpPr>
        <p:spPr>
          <a:xfrm>
            <a:off x="1131840" y="5586480"/>
            <a:ext cx="7128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ject 32"/>
          <p:cNvSpPr/>
          <p:nvPr/>
        </p:nvSpPr>
        <p:spPr>
          <a:xfrm>
            <a:off x="2646360" y="4495680"/>
            <a:ext cx="1150920" cy="2233800"/>
          </a:xfrm>
          <a:custGeom>
            <a:avLst/>
            <a:gdLst/>
            <a:ahLst/>
            <a:rect l="l" t="t" r="r" b="b"/>
            <a:pathLst>
              <a:path w="1152143" h="2232659">
                <a:moveTo>
                  <a:pt x="0" y="2232660"/>
                </a:moveTo>
                <a:lnTo>
                  <a:pt x="1152143" y="2232660"/>
                </a:lnTo>
                <a:lnTo>
                  <a:pt x="1152143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ject 33"/>
          <p:cNvSpPr/>
          <p:nvPr/>
        </p:nvSpPr>
        <p:spPr>
          <a:xfrm>
            <a:off x="2631960" y="4484520"/>
            <a:ext cx="1177920" cy="2256120"/>
          </a:xfrm>
          <a:custGeom>
            <a:avLst/>
            <a:gdLst/>
            <a:ahLst/>
            <a:rect l="l" t="t" r="r" b="b"/>
            <a:pathLst>
              <a:path w="1178052" h="2257044">
                <a:moveTo>
                  <a:pt x="1171956" y="0"/>
                </a:moveTo>
                <a:lnTo>
                  <a:pt x="6096" y="0"/>
                </a:lnTo>
                <a:lnTo>
                  <a:pt x="0" y="4572"/>
                </a:lnTo>
                <a:lnTo>
                  <a:pt x="0" y="2250948"/>
                </a:lnTo>
                <a:lnTo>
                  <a:pt x="6096" y="2257044"/>
                </a:lnTo>
                <a:lnTo>
                  <a:pt x="1171956" y="2257044"/>
                </a:lnTo>
                <a:lnTo>
                  <a:pt x="1178052" y="2250948"/>
                </a:lnTo>
                <a:lnTo>
                  <a:pt x="1178052" y="2244852"/>
                </a:lnTo>
                <a:lnTo>
                  <a:pt x="25908" y="2244852"/>
                </a:lnTo>
                <a:lnTo>
                  <a:pt x="13716" y="2231136"/>
                </a:lnTo>
                <a:lnTo>
                  <a:pt x="25908" y="2231136"/>
                </a:lnTo>
                <a:lnTo>
                  <a:pt x="25908" y="24384"/>
                </a:lnTo>
                <a:lnTo>
                  <a:pt x="13716" y="24384"/>
                </a:lnTo>
                <a:lnTo>
                  <a:pt x="25908" y="12192"/>
                </a:lnTo>
                <a:lnTo>
                  <a:pt x="1178052" y="12192"/>
                </a:lnTo>
                <a:lnTo>
                  <a:pt x="1178052" y="4572"/>
                </a:lnTo>
                <a:lnTo>
                  <a:pt x="1171956" y="0"/>
                </a:lnTo>
                <a:close/>
              </a:path>
              <a:path w="1178052" h="2257044">
                <a:moveTo>
                  <a:pt x="25908" y="2231136"/>
                </a:moveTo>
                <a:lnTo>
                  <a:pt x="13716" y="2231136"/>
                </a:lnTo>
                <a:lnTo>
                  <a:pt x="25908" y="2244852"/>
                </a:lnTo>
                <a:lnTo>
                  <a:pt x="25908" y="2231136"/>
                </a:lnTo>
                <a:close/>
              </a:path>
              <a:path w="1178052" h="2257044">
                <a:moveTo>
                  <a:pt x="1152144" y="2231136"/>
                </a:moveTo>
                <a:lnTo>
                  <a:pt x="25908" y="2231136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6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1152144" y="2244852"/>
                </a:lnTo>
                <a:lnTo>
                  <a:pt x="1165860" y="2231136"/>
                </a:lnTo>
                <a:lnTo>
                  <a:pt x="1178052" y="2231136"/>
                </a:lnTo>
                <a:lnTo>
                  <a:pt x="1178052" y="24384"/>
                </a:lnTo>
                <a:lnTo>
                  <a:pt x="1165860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2231136"/>
                </a:moveTo>
                <a:lnTo>
                  <a:pt x="1165860" y="2231136"/>
                </a:lnTo>
                <a:lnTo>
                  <a:pt x="1152144" y="2244852"/>
                </a:lnTo>
                <a:lnTo>
                  <a:pt x="1178052" y="2244852"/>
                </a:lnTo>
                <a:lnTo>
                  <a:pt x="1178052" y="2231136"/>
                </a:lnTo>
                <a:close/>
              </a:path>
              <a:path w="1178052" h="2257044">
                <a:moveTo>
                  <a:pt x="25908" y="12192"/>
                </a:moveTo>
                <a:lnTo>
                  <a:pt x="13716" y="24384"/>
                </a:lnTo>
                <a:lnTo>
                  <a:pt x="25908" y="24384"/>
                </a:lnTo>
                <a:lnTo>
                  <a:pt x="25908" y="12192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25908" y="12192"/>
                </a:lnTo>
                <a:lnTo>
                  <a:pt x="25908" y="24384"/>
                </a:lnTo>
                <a:lnTo>
                  <a:pt x="1152144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12192"/>
                </a:moveTo>
                <a:lnTo>
                  <a:pt x="1152144" y="12192"/>
                </a:lnTo>
                <a:lnTo>
                  <a:pt x="1165860" y="24384"/>
                </a:lnTo>
                <a:lnTo>
                  <a:pt x="1178052" y="24384"/>
                </a:lnTo>
                <a:lnTo>
                  <a:pt x="1178052" y="12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bject 34"/>
          <p:cNvSpPr/>
          <p:nvPr/>
        </p:nvSpPr>
        <p:spPr>
          <a:xfrm>
            <a:off x="2722680" y="4481640"/>
            <a:ext cx="966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bject 35"/>
          <p:cNvSpPr/>
          <p:nvPr/>
        </p:nvSpPr>
        <p:spPr>
          <a:xfrm>
            <a:off x="2722680" y="5192640"/>
            <a:ext cx="728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bject 36"/>
          <p:cNvSpPr/>
          <p:nvPr/>
        </p:nvSpPr>
        <p:spPr>
          <a:xfrm>
            <a:off x="2722680" y="5497560"/>
            <a:ext cx="9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bject 37"/>
          <p:cNvSpPr/>
          <p:nvPr/>
        </p:nvSpPr>
        <p:spPr>
          <a:xfrm>
            <a:off x="2722680" y="5954760"/>
            <a:ext cx="855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bject 38"/>
          <p:cNvSpPr/>
          <p:nvPr/>
        </p:nvSpPr>
        <p:spPr>
          <a:xfrm>
            <a:off x="2722680" y="6259680"/>
            <a:ext cx="9810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object 39"/>
          <p:cNvSpPr/>
          <p:nvPr/>
        </p:nvSpPr>
        <p:spPr>
          <a:xfrm>
            <a:off x="2722680" y="6564240"/>
            <a:ext cx="712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bject 40"/>
          <p:cNvSpPr/>
          <p:nvPr/>
        </p:nvSpPr>
        <p:spPr>
          <a:xfrm>
            <a:off x="4373640" y="4495680"/>
            <a:ext cx="1152360" cy="2233800"/>
          </a:xfrm>
          <a:custGeom>
            <a:avLst/>
            <a:gdLst/>
            <a:ahLst/>
            <a:rect l="l" t="t" r="r" b="b"/>
            <a:pathLst>
              <a:path w="1152144" h="2232659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object 41"/>
          <p:cNvSpPr/>
          <p:nvPr/>
        </p:nvSpPr>
        <p:spPr>
          <a:xfrm>
            <a:off x="4361040" y="4484520"/>
            <a:ext cx="1177920" cy="2256120"/>
          </a:xfrm>
          <a:custGeom>
            <a:avLst/>
            <a:gdLst/>
            <a:ahLst/>
            <a:rect l="l" t="t" r="r" b="b"/>
            <a:pathLst>
              <a:path w="1178052" h="2257044">
                <a:moveTo>
                  <a:pt x="1171956" y="0"/>
                </a:moveTo>
                <a:lnTo>
                  <a:pt x="6096" y="0"/>
                </a:lnTo>
                <a:lnTo>
                  <a:pt x="0" y="4572"/>
                </a:lnTo>
                <a:lnTo>
                  <a:pt x="0" y="2250948"/>
                </a:lnTo>
                <a:lnTo>
                  <a:pt x="6096" y="2257044"/>
                </a:lnTo>
                <a:lnTo>
                  <a:pt x="1171956" y="2257044"/>
                </a:lnTo>
                <a:lnTo>
                  <a:pt x="1178052" y="2250948"/>
                </a:lnTo>
                <a:lnTo>
                  <a:pt x="1178052" y="2244852"/>
                </a:lnTo>
                <a:lnTo>
                  <a:pt x="25908" y="2244852"/>
                </a:lnTo>
                <a:lnTo>
                  <a:pt x="13716" y="2231136"/>
                </a:lnTo>
                <a:lnTo>
                  <a:pt x="25908" y="2231136"/>
                </a:lnTo>
                <a:lnTo>
                  <a:pt x="25908" y="24384"/>
                </a:lnTo>
                <a:lnTo>
                  <a:pt x="13716" y="24384"/>
                </a:lnTo>
                <a:lnTo>
                  <a:pt x="25908" y="12192"/>
                </a:lnTo>
                <a:lnTo>
                  <a:pt x="1178052" y="12192"/>
                </a:lnTo>
                <a:lnTo>
                  <a:pt x="1178052" y="4572"/>
                </a:lnTo>
                <a:lnTo>
                  <a:pt x="1171956" y="0"/>
                </a:lnTo>
                <a:close/>
              </a:path>
              <a:path w="1178052" h="2257044">
                <a:moveTo>
                  <a:pt x="25908" y="2231136"/>
                </a:moveTo>
                <a:lnTo>
                  <a:pt x="13716" y="2231136"/>
                </a:lnTo>
                <a:lnTo>
                  <a:pt x="25908" y="2244852"/>
                </a:lnTo>
                <a:lnTo>
                  <a:pt x="25908" y="2231136"/>
                </a:lnTo>
                <a:close/>
              </a:path>
              <a:path w="1178052" h="2257044">
                <a:moveTo>
                  <a:pt x="1152144" y="2231136"/>
                </a:moveTo>
                <a:lnTo>
                  <a:pt x="25908" y="2231136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6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1152144" y="2244852"/>
                </a:lnTo>
                <a:lnTo>
                  <a:pt x="1165860" y="2231136"/>
                </a:lnTo>
                <a:lnTo>
                  <a:pt x="1178052" y="2231136"/>
                </a:lnTo>
                <a:lnTo>
                  <a:pt x="1178052" y="24384"/>
                </a:lnTo>
                <a:lnTo>
                  <a:pt x="1165860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2231136"/>
                </a:moveTo>
                <a:lnTo>
                  <a:pt x="1165860" y="2231136"/>
                </a:lnTo>
                <a:lnTo>
                  <a:pt x="1152144" y="2244852"/>
                </a:lnTo>
                <a:lnTo>
                  <a:pt x="1178052" y="2244852"/>
                </a:lnTo>
                <a:lnTo>
                  <a:pt x="1178052" y="2231136"/>
                </a:lnTo>
                <a:close/>
              </a:path>
              <a:path w="1178052" h="2257044">
                <a:moveTo>
                  <a:pt x="25908" y="12192"/>
                </a:moveTo>
                <a:lnTo>
                  <a:pt x="13716" y="24384"/>
                </a:lnTo>
                <a:lnTo>
                  <a:pt x="25908" y="24384"/>
                </a:lnTo>
                <a:lnTo>
                  <a:pt x="25908" y="12192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25908" y="12192"/>
                </a:lnTo>
                <a:lnTo>
                  <a:pt x="25908" y="24384"/>
                </a:lnTo>
                <a:lnTo>
                  <a:pt x="1152144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12192"/>
                </a:moveTo>
                <a:lnTo>
                  <a:pt x="1152144" y="12192"/>
                </a:lnTo>
                <a:lnTo>
                  <a:pt x="1165860" y="24384"/>
                </a:lnTo>
                <a:lnTo>
                  <a:pt x="1178052" y="24384"/>
                </a:lnTo>
                <a:lnTo>
                  <a:pt x="1178052" y="12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object 42"/>
          <p:cNvSpPr/>
          <p:nvPr/>
        </p:nvSpPr>
        <p:spPr>
          <a:xfrm>
            <a:off x="4451400" y="4560840"/>
            <a:ext cx="77004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object 43"/>
          <p:cNvSpPr/>
          <p:nvPr/>
        </p:nvSpPr>
        <p:spPr>
          <a:xfrm>
            <a:off x="4433760" y="5076720"/>
            <a:ext cx="855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bject 44"/>
          <p:cNvSpPr/>
          <p:nvPr/>
        </p:nvSpPr>
        <p:spPr>
          <a:xfrm>
            <a:off x="4433760" y="5381640"/>
            <a:ext cx="981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bject 45"/>
          <p:cNvSpPr/>
          <p:nvPr/>
        </p:nvSpPr>
        <p:spPr>
          <a:xfrm>
            <a:off x="4433760" y="5686560"/>
            <a:ext cx="7146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bject 46"/>
          <p:cNvSpPr/>
          <p:nvPr/>
        </p:nvSpPr>
        <p:spPr>
          <a:xfrm>
            <a:off x="6029280" y="4495680"/>
            <a:ext cx="1152720" cy="2233800"/>
          </a:xfrm>
          <a:custGeom>
            <a:avLst/>
            <a:gdLst/>
            <a:ahLst/>
            <a:rect l="l" t="t" r="r" b="b"/>
            <a:pathLst>
              <a:path w="1152144" h="2232659">
                <a:moveTo>
                  <a:pt x="0" y="2232660"/>
                </a:moveTo>
                <a:lnTo>
                  <a:pt x="1152144" y="2232660"/>
                </a:lnTo>
                <a:lnTo>
                  <a:pt x="1152144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object 47"/>
          <p:cNvSpPr/>
          <p:nvPr/>
        </p:nvSpPr>
        <p:spPr>
          <a:xfrm>
            <a:off x="6016680" y="4484520"/>
            <a:ext cx="1177920" cy="2256120"/>
          </a:xfrm>
          <a:custGeom>
            <a:avLst/>
            <a:gdLst/>
            <a:ahLst/>
            <a:rect l="l" t="t" r="r" b="b"/>
            <a:pathLst>
              <a:path w="1178052" h="2257044">
                <a:moveTo>
                  <a:pt x="1171956" y="0"/>
                </a:moveTo>
                <a:lnTo>
                  <a:pt x="6096" y="0"/>
                </a:lnTo>
                <a:lnTo>
                  <a:pt x="0" y="4572"/>
                </a:lnTo>
                <a:lnTo>
                  <a:pt x="0" y="2250948"/>
                </a:lnTo>
                <a:lnTo>
                  <a:pt x="6096" y="2257044"/>
                </a:lnTo>
                <a:lnTo>
                  <a:pt x="1171956" y="2257044"/>
                </a:lnTo>
                <a:lnTo>
                  <a:pt x="1178052" y="2250948"/>
                </a:lnTo>
                <a:lnTo>
                  <a:pt x="1178052" y="2244852"/>
                </a:lnTo>
                <a:lnTo>
                  <a:pt x="25908" y="2244852"/>
                </a:lnTo>
                <a:lnTo>
                  <a:pt x="12192" y="2231136"/>
                </a:lnTo>
                <a:lnTo>
                  <a:pt x="25908" y="2231136"/>
                </a:lnTo>
                <a:lnTo>
                  <a:pt x="25908" y="24384"/>
                </a:lnTo>
                <a:lnTo>
                  <a:pt x="12192" y="24384"/>
                </a:lnTo>
                <a:lnTo>
                  <a:pt x="25908" y="12192"/>
                </a:lnTo>
                <a:lnTo>
                  <a:pt x="1178052" y="12192"/>
                </a:lnTo>
                <a:lnTo>
                  <a:pt x="1178052" y="4572"/>
                </a:lnTo>
                <a:lnTo>
                  <a:pt x="1171956" y="0"/>
                </a:lnTo>
                <a:close/>
              </a:path>
              <a:path w="1178052" h="2257044">
                <a:moveTo>
                  <a:pt x="25908" y="2231136"/>
                </a:moveTo>
                <a:lnTo>
                  <a:pt x="12192" y="2231136"/>
                </a:lnTo>
                <a:lnTo>
                  <a:pt x="25908" y="2244852"/>
                </a:lnTo>
                <a:lnTo>
                  <a:pt x="25908" y="2231136"/>
                </a:lnTo>
                <a:close/>
              </a:path>
              <a:path w="1178052" h="2257044">
                <a:moveTo>
                  <a:pt x="1152144" y="2231136"/>
                </a:moveTo>
                <a:lnTo>
                  <a:pt x="25908" y="2231136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6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1152144" y="2244852"/>
                </a:lnTo>
                <a:lnTo>
                  <a:pt x="1164336" y="2231136"/>
                </a:lnTo>
                <a:lnTo>
                  <a:pt x="1178052" y="2231136"/>
                </a:lnTo>
                <a:lnTo>
                  <a:pt x="1178052" y="24384"/>
                </a:lnTo>
                <a:lnTo>
                  <a:pt x="1164336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2231136"/>
                </a:moveTo>
                <a:lnTo>
                  <a:pt x="1164336" y="2231136"/>
                </a:lnTo>
                <a:lnTo>
                  <a:pt x="1152144" y="2244852"/>
                </a:lnTo>
                <a:lnTo>
                  <a:pt x="1178052" y="2244852"/>
                </a:lnTo>
                <a:lnTo>
                  <a:pt x="1178052" y="2231136"/>
                </a:lnTo>
                <a:close/>
              </a:path>
              <a:path w="1178052" h="2257044">
                <a:moveTo>
                  <a:pt x="25908" y="12192"/>
                </a:moveTo>
                <a:lnTo>
                  <a:pt x="12192" y="24384"/>
                </a:lnTo>
                <a:lnTo>
                  <a:pt x="25908" y="24384"/>
                </a:lnTo>
                <a:lnTo>
                  <a:pt x="25908" y="12192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25908" y="12192"/>
                </a:lnTo>
                <a:lnTo>
                  <a:pt x="25908" y="24384"/>
                </a:lnTo>
                <a:lnTo>
                  <a:pt x="1152144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12192"/>
                </a:moveTo>
                <a:lnTo>
                  <a:pt x="1152144" y="12192"/>
                </a:lnTo>
                <a:lnTo>
                  <a:pt x="1164336" y="24384"/>
                </a:lnTo>
                <a:lnTo>
                  <a:pt x="1178052" y="24384"/>
                </a:lnTo>
                <a:lnTo>
                  <a:pt x="1178052" y="12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object 48"/>
          <p:cNvSpPr/>
          <p:nvPr/>
        </p:nvSpPr>
        <p:spPr>
          <a:xfrm>
            <a:off x="6107040" y="4481640"/>
            <a:ext cx="9669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主门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</a:rPr>
              <a:t>B</a:t>
            </a:r>
            <a:r>
              <a:rPr b="0" lang="zh-CN" sz="16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： </a:t>
            </a: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四端口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读 写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object 49"/>
          <p:cNvSpPr/>
          <p:nvPr/>
        </p:nvSpPr>
        <p:spPr>
          <a:xfrm>
            <a:off x="6107040" y="5192640"/>
            <a:ext cx="728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电源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object 50"/>
          <p:cNvSpPr/>
          <p:nvPr/>
        </p:nvSpPr>
        <p:spPr>
          <a:xfrm>
            <a:off x="6107040" y="5497560"/>
            <a:ext cx="981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门禁控制模块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（控制板）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object 51"/>
          <p:cNvSpPr/>
          <p:nvPr/>
        </p:nvSpPr>
        <p:spPr>
          <a:xfrm>
            <a:off x="6107040" y="5954760"/>
            <a:ext cx="855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bject 52"/>
          <p:cNvSpPr/>
          <p:nvPr/>
        </p:nvSpPr>
        <p:spPr>
          <a:xfrm>
            <a:off x="6107040" y="6259680"/>
            <a:ext cx="98100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套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bject 53"/>
          <p:cNvSpPr/>
          <p:nvPr/>
        </p:nvSpPr>
        <p:spPr>
          <a:xfrm>
            <a:off x="6107040" y="6564240"/>
            <a:ext cx="714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ambria"/>
              </a:rPr>
              <a:t>4</a:t>
            </a:r>
            <a:r>
              <a:rPr b="0" lang="zh-CN" sz="1000" spc="-1" strike="noStrike">
                <a:solidFill>
                  <a:srgbClr val="ff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object 54"/>
          <p:cNvSpPr/>
          <p:nvPr/>
        </p:nvSpPr>
        <p:spPr>
          <a:xfrm>
            <a:off x="7650000" y="4495680"/>
            <a:ext cx="1151280" cy="2233800"/>
          </a:xfrm>
          <a:custGeom>
            <a:avLst/>
            <a:gdLst/>
            <a:ahLst/>
            <a:rect l="l" t="t" r="r" b="b"/>
            <a:pathLst>
              <a:path w="1150620" h="2232659">
                <a:moveTo>
                  <a:pt x="0" y="2232660"/>
                </a:moveTo>
                <a:lnTo>
                  <a:pt x="1150620" y="2232660"/>
                </a:lnTo>
                <a:lnTo>
                  <a:pt x="1150620" y="0"/>
                </a:lnTo>
                <a:lnTo>
                  <a:pt x="0" y="0"/>
                </a:lnTo>
                <a:lnTo>
                  <a:pt x="0" y="223266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object 55"/>
          <p:cNvSpPr/>
          <p:nvPr/>
        </p:nvSpPr>
        <p:spPr>
          <a:xfrm>
            <a:off x="7637400" y="4484520"/>
            <a:ext cx="1177920" cy="2256120"/>
          </a:xfrm>
          <a:custGeom>
            <a:avLst/>
            <a:gdLst/>
            <a:ahLst/>
            <a:rect l="l" t="t" r="r" b="b"/>
            <a:pathLst>
              <a:path w="1178052" h="2257044">
                <a:moveTo>
                  <a:pt x="1171956" y="0"/>
                </a:moveTo>
                <a:lnTo>
                  <a:pt x="6096" y="0"/>
                </a:lnTo>
                <a:lnTo>
                  <a:pt x="0" y="4572"/>
                </a:lnTo>
                <a:lnTo>
                  <a:pt x="0" y="2250948"/>
                </a:lnTo>
                <a:lnTo>
                  <a:pt x="6096" y="2257044"/>
                </a:lnTo>
                <a:lnTo>
                  <a:pt x="1171956" y="2257044"/>
                </a:lnTo>
                <a:lnTo>
                  <a:pt x="1178052" y="2250948"/>
                </a:lnTo>
                <a:lnTo>
                  <a:pt x="1178052" y="2244852"/>
                </a:lnTo>
                <a:lnTo>
                  <a:pt x="25908" y="2244852"/>
                </a:lnTo>
                <a:lnTo>
                  <a:pt x="13716" y="2231136"/>
                </a:lnTo>
                <a:lnTo>
                  <a:pt x="25908" y="2231136"/>
                </a:lnTo>
                <a:lnTo>
                  <a:pt x="25908" y="24384"/>
                </a:lnTo>
                <a:lnTo>
                  <a:pt x="13716" y="24384"/>
                </a:lnTo>
                <a:lnTo>
                  <a:pt x="25908" y="12192"/>
                </a:lnTo>
                <a:lnTo>
                  <a:pt x="1178052" y="12192"/>
                </a:lnTo>
                <a:lnTo>
                  <a:pt x="1178052" y="4572"/>
                </a:lnTo>
                <a:lnTo>
                  <a:pt x="1171956" y="0"/>
                </a:lnTo>
                <a:close/>
              </a:path>
              <a:path w="1178052" h="2257044">
                <a:moveTo>
                  <a:pt x="25908" y="2231136"/>
                </a:moveTo>
                <a:lnTo>
                  <a:pt x="13716" y="2231136"/>
                </a:lnTo>
                <a:lnTo>
                  <a:pt x="25908" y="2244852"/>
                </a:lnTo>
                <a:lnTo>
                  <a:pt x="25908" y="2231136"/>
                </a:lnTo>
                <a:close/>
              </a:path>
              <a:path w="1178052" h="2257044">
                <a:moveTo>
                  <a:pt x="1152144" y="2231136"/>
                </a:moveTo>
                <a:lnTo>
                  <a:pt x="25908" y="2231136"/>
                </a:lnTo>
                <a:lnTo>
                  <a:pt x="25908" y="2244852"/>
                </a:lnTo>
                <a:lnTo>
                  <a:pt x="1152144" y="2244852"/>
                </a:lnTo>
                <a:lnTo>
                  <a:pt x="1152144" y="2231136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1152144" y="2244852"/>
                </a:lnTo>
                <a:lnTo>
                  <a:pt x="1164336" y="2231136"/>
                </a:lnTo>
                <a:lnTo>
                  <a:pt x="1178052" y="2231136"/>
                </a:lnTo>
                <a:lnTo>
                  <a:pt x="1178052" y="24384"/>
                </a:lnTo>
                <a:lnTo>
                  <a:pt x="1164336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2231136"/>
                </a:moveTo>
                <a:lnTo>
                  <a:pt x="1164336" y="2231136"/>
                </a:lnTo>
                <a:lnTo>
                  <a:pt x="1152144" y="2244852"/>
                </a:lnTo>
                <a:lnTo>
                  <a:pt x="1178052" y="2244852"/>
                </a:lnTo>
                <a:lnTo>
                  <a:pt x="1178052" y="2231136"/>
                </a:lnTo>
                <a:close/>
              </a:path>
              <a:path w="1178052" h="2257044">
                <a:moveTo>
                  <a:pt x="25908" y="12192"/>
                </a:moveTo>
                <a:lnTo>
                  <a:pt x="13716" y="24384"/>
                </a:lnTo>
                <a:lnTo>
                  <a:pt x="25908" y="24384"/>
                </a:lnTo>
                <a:lnTo>
                  <a:pt x="25908" y="12192"/>
                </a:lnTo>
                <a:close/>
              </a:path>
              <a:path w="1178052" h="2257044">
                <a:moveTo>
                  <a:pt x="1152144" y="12192"/>
                </a:moveTo>
                <a:lnTo>
                  <a:pt x="25908" y="12192"/>
                </a:lnTo>
                <a:lnTo>
                  <a:pt x="25908" y="24384"/>
                </a:lnTo>
                <a:lnTo>
                  <a:pt x="1152144" y="24384"/>
                </a:lnTo>
                <a:lnTo>
                  <a:pt x="1152144" y="12192"/>
                </a:lnTo>
                <a:close/>
              </a:path>
              <a:path w="1178052" h="2257044">
                <a:moveTo>
                  <a:pt x="1178052" y="12192"/>
                </a:moveTo>
                <a:lnTo>
                  <a:pt x="1152144" y="12192"/>
                </a:lnTo>
                <a:lnTo>
                  <a:pt x="1164336" y="24384"/>
                </a:lnTo>
                <a:lnTo>
                  <a:pt x="1178052" y="24384"/>
                </a:lnTo>
                <a:lnTo>
                  <a:pt x="1178052" y="121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object 56"/>
          <p:cNvSpPr/>
          <p:nvPr/>
        </p:nvSpPr>
        <p:spPr>
          <a:xfrm>
            <a:off x="7728120" y="4560840"/>
            <a:ext cx="8539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副门</a:t>
            </a:r>
            <a:r>
              <a:rPr b="1" lang="en-US" sz="1600" spc="-1" strike="noStrike">
                <a:solidFill>
                  <a:srgbClr val="00afef"/>
                </a:solidFill>
                <a:latin typeface="Cambria"/>
              </a:rPr>
              <a:t>A</a:t>
            </a:r>
            <a:r>
              <a:rPr b="0" lang="zh-CN" sz="1600" spc="-1" strike="noStrike">
                <a:solidFill>
                  <a:srgbClr val="00afef"/>
                </a:solidFill>
                <a:latin typeface="Microsoft JhengHei"/>
                <a:ea typeface="Microsoft JhengHei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799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声光报警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object 57"/>
          <p:cNvSpPr/>
          <p:nvPr/>
        </p:nvSpPr>
        <p:spPr>
          <a:xfrm>
            <a:off x="7728120" y="5216400"/>
            <a:ext cx="98100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套红外检测组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object 58"/>
          <p:cNvSpPr/>
          <p:nvPr/>
        </p:nvSpPr>
        <p:spPr>
          <a:xfrm>
            <a:off x="7728120" y="5521320"/>
            <a:ext cx="71244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个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</a:rPr>
              <a:t>UHF</a:t>
            </a:r>
            <a:r>
              <a:rPr b="0" lang="zh-CN" sz="1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天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object 2"/>
          <p:cNvSpPr/>
          <p:nvPr/>
        </p:nvSpPr>
        <p:spPr>
          <a:xfrm>
            <a:off x="773280" y="347760"/>
            <a:ext cx="9144000" cy="10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bject 3"/>
          <p:cNvSpPr/>
          <p:nvPr/>
        </p:nvSpPr>
        <p:spPr>
          <a:xfrm>
            <a:off x="1103400" y="1717560"/>
            <a:ext cx="711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汇总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66800" y="2544840"/>
          <a:ext cx="6159600" cy="2403360"/>
        </p:xfrm>
        <a:graphic>
          <a:graphicData uri="http://schemas.openxmlformats.org/drawingml/2006/table">
            <a:tbl>
              <a:tblPr/>
              <a:tblGrid>
                <a:gridCol w="1231920"/>
                <a:gridCol w="1231920"/>
                <a:gridCol w="1231920"/>
                <a:gridCol w="1231920"/>
                <a:gridCol w="1231920"/>
              </a:tblGrid>
              <a:tr h="343440">
                <a:tc rowSpan="2">
                  <a:txBody>
                    <a:bodyPr lIns="0" rIns="0" tIns="0" bIns="0" anchor="t">
                      <a:noAutofit/>
                    </a:bodyPr>
                    <a:p>
                      <a:pPr marL="147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Microsoft JhengHei"/>
                          <a:ea typeface="Microsoft JhengHei"/>
                        </a:rPr>
                        <a:t>通道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1944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19440">
                      <a:solidFill>
                        <a:srgbClr val="ffffff"/>
                      </a:solidFill>
                    </a:lnB>
                    <a:solidFill>
                      <a:srgbClr val="4679b0"/>
                    </a:solidFill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 marL="15462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Microsoft JhengHei"/>
                          <a:ea typeface="Microsoft JhengHei"/>
                        </a:rPr>
                        <a:t>安全门数量（片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19440">
                      <a:solidFill>
                        <a:srgbClr val="ffffff"/>
                      </a:solidFill>
                    </a:lnB>
                    <a:solidFill>
                      <a:srgbClr val="4679b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95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主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1944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1944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9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主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1944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副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1944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副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1944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</a:tr>
              <a:tr h="411840">
                <a:tc gridSpan="2">
                  <a:txBody>
                    <a:bodyPr lIns="0" rIns="0" tIns="0" bIns="0" anchor="t">
                      <a:noAutofit/>
                    </a:bodyPr>
                    <a:p>
                      <a:pPr marL="264960">
                        <a:lnSpc>
                          <a:spcPct val="100000"/>
                        </a:lnSpc>
                        <a:tabLst>
                          <a:tab algn="l" pos="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700" spc="-1" strike="noStrike" baseline="2000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单通道</a:t>
                      </a:r>
                      <a:r>
                        <a:rPr b="0" lang="zh-CN" sz="2700" spc="-1" strike="noStrike" baseline="2000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  <a:tr h="27468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fd6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fd6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fd6e3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fd6e3"/>
                    </a:solidFill>
                  </a:tcPr>
                </a:tc>
              </a:tr>
              <a:tr h="274680">
                <a:tc gridSpan="2">
                  <a:txBody>
                    <a:bodyPr lIns="0" rIns="0" tIns="0" bIns="0" anchor="t">
                      <a:noAutofit/>
                    </a:bodyPr>
                    <a:p>
                      <a:pPr marL="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双通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544680">
                        <a:lnSpc>
                          <a:spcPct val="100000"/>
                        </a:lnSpc>
                        <a:tabLst>
                          <a:tab algn="l" pos="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>
                      <a:noFill/>
                    </a:lnT>
                    <a:lnB w="720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</a:tr>
              <a:tr h="411840">
                <a:tc gridSpan="2">
                  <a:txBody>
                    <a:bodyPr lIns="0" rIns="0" tIns="0" bIns="0" anchor="t">
                      <a:noAutofit/>
                    </a:bodyPr>
                    <a:p>
                      <a:pPr marL="264960">
                        <a:lnSpc>
                          <a:spcPct val="100000"/>
                        </a:lnSpc>
                        <a:tabLst>
                          <a:tab algn="l" pos="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700" spc="-1" strike="noStrike" baseline="2000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三通道</a:t>
                      </a:r>
                      <a:r>
                        <a:rPr b="0" lang="zh-CN" sz="2700" spc="-1" strike="noStrike" baseline="2000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720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544680">
                        <a:lnSpc>
                          <a:spcPct val="100000"/>
                        </a:lnSpc>
                        <a:tabLst>
                          <a:tab algn="l" pos="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720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720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e8ebf1"/>
                    </a:solidFill>
                  </a:tcPr>
                </a:tc>
              </a:tr>
              <a:tr h="343440">
                <a:tc gridSpan="2">
                  <a:txBody>
                    <a:bodyPr lIns="0" rIns="0" tIns="0" bIns="0" anchor="t">
                      <a:noAutofit/>
                    </a:bodyPr>
                    <a:p>
                      <a:pPr marL="264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Microsoft JhengHei"/>
                          <a:ea typeface="Microsoft JhengHei"/>
                        </a:rPr>
                        <a:t>四通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648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marL="544680">
                        <a:lnSpc>
                          <a:spcPct val="100000"/>
                        </a:lnSpc>
                        <a:tabLst>
                          <a:tab algn="l" pos="0"/>
                          <a:tab algn="l" pos="1774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720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mbria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7200">
                      <a:solidFill>
                        <a:srgbClr val="ffffff"/>
                      </a:solidFill>
                    </a:lnL>
                    <a:lnR w="6480">
                      <a:solidFill>
                        <a:srgbClr val="ffffff"/>
                      </a:solidFill>
                    </a:lnR>
                    <a:lnT w="6480">
                      <a:solidFill>
                        <a:srgbClr val="ffffff"/>
                      </a:solidFill>
                    </a:lnT>
                    <a:lnB w="6480">
                      <a:solidFill>
                        <a:srgbClr val="ffffff"/>
                      </a:solidFill>
                    </a:lnB>
                    <a:solidFill>
                      <a:srgbClr val="cfd6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3T11:39:34Z</dcterms:created>
  <dc:creator>Administrator</dc:creator>
  <dc:description/>
  <dc:language>en-US</dc:language>
  <cp:lastModifiedBy>MC SYSTEM</cp:lastModifiedBy>
  <dcterms:modified xsi:type="dcterms:W3CDTF">2019-08-03T03:48:07Z</dcterms:modified>
  <cp:revision>2</cp:revision>
  <dc:subject/>
  <dc:title>博维BRC-04T UHF安全门通道搭建说明.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7-01-13T00:00:00Z</vt:filetime>
  </property>
  <property fmtid="{D5CDD505-2E9C-101B-9397-08002B2CF9AE}" pid="3" name="LastSaved">
    <vt:filetime>2019-08-03T00:00:00Z</vt:filetime>
  </property>
</Properties>
</file>